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3BB7-E44A-4D7A-89E7-2669B9ED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F39A-56B5-4407-93CB-BFA8FDFB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8F7C4-4B55-4887-A2B2-DC2923CE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B911A-089A-4ADE-8007-609EAD1D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3446F-0EC0-471F-9B92-14605B26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A10BA-C752-4251-B1BC-7FC24D84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B1BFF-D1C7-4409-AEED-2E5EA534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2AFA2-C2E0-49E7-AA21-E4F58DB6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6D181-DFBB-4271-AEA8-EA9A5A33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6C3BC-2B3D-41E6-90D6-AF9F56A3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590F5-57EE-476C-B9CD-26EC5FC0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927AF-2D65-45CC-A4E0-A32BA0C9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7F06-9515-4EE8-9741-DCCB2A1A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DDE88-6631-459C-8961-F9130CD9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448F6-D9EF-45D8-82A3-5F77E0C4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B3CAD-18B8-4FD5-B21A-0A6D33D9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B7B26-74D4-4C80-A174-1F1E6A21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F4354-7D85-48C2-B4CB-0B2F7602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92AB8-45F2-40FE-A747-6021AD6A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07DD9-DCF6-4C7C-8A74-59C45D2D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BCA8F-BE46-4AEE-8768-E14A2157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D7B42-406F-43D9-A38F-03484B24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98966-7CB5-4D49-8CEB-2A7B72DD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08FE-B092-4C39-BEDE-2D3341A5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1D50C-52FA-4101-B60C-E7D1408F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A149A-61B9-4847-941F-E491593B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72AF9-CCD8-443F-9978-123265BC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18057-A7F2-4456-A721-90A3E9A6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37267-82F4-46F8-B789-1AA11985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688D8-94CE-4FF1-B67D-A1A7A764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376DC-52B9-4C2B-9C9E-CC98A4DE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8EBA3-66F0-4AEB-9771-7A0927A0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EC61C-AE7D-4CAB-BF05-22AEAAC5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DDBF0-99F2-4498-ACA8-DB07BC9D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8BE5-83C1-4527-93D9-84E279D7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914B4-5562-4755-BBFF-30A3B602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58291-ECD0-415C-A4AF-9646C4C8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D82EC-48C1-4398-B645-5C1D9182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5DDF54-8382-49CB-B7CA-CE6DDE40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1D218-77B4-4F82-BCDB-0B60D849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BFF4A-AFE0-41E4-811F-8C848EF9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DDD3F-C642-49A8-96AE-09B77202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74D25-A97A-4B0B-B3CD-738FF694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85384-3145-49F1-ADF3-80E1923A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896CE-3A67-4314-AA93-006D68A4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90A5-5928-4BE5-B7CC-D4F2495E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59589-BAC5-4879-8F55-A8396E7C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7A11B-3A76-4855-ABED-6539175B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07E2A5-1ACE-4BC3-AACE-A6672F52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4E320-E803-4A36-A313-CCC67FCD6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1A74B-D261-4FE6-9C4F-997C2419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6264D8-0FA8-443B-9FED-7E16C77B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999CFA-13D4-421E-9BD3-70952CA1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4E3E1A-C93D-47B8-A687-3E1E8574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4BD73A-9A87-4344-86A6-A2A0C808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F4E9F6-126A-4405-8E37-038C9B81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B3D4-306E-44C2-8430-C3D7C363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8139AA-F69B-4D74-A23D-97D63943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06D0BE-A912-41A2-AA73-5F5B624A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D1CF30-2EF3-4EA6-9177-819EF88B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614D7C-E525-462C-B6CF-0DE664AF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D80BC2-1100-4CF9-BC14-B8208737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A2A352-B544-4176-A3B9-848B4CAE5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2CA4B6-C33A-416C-A92A-80363E54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FE2E-01E6-4C1B-B151-44E551F4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C3B2-C6E8-40F0-8278-8C660951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EA0D-FD08-4F13-ADE0-6173D119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A1F1-CC7F-49C8-8C38-14FC865A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0877-BF3E-423D-BB96-B169A304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5AD6-A6A6-496E-873E-53782A5B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D520-F985-400B-956C-C8CD024A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F71C-A432-4FA9-B6CD-C8400F93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6969-54A8-40CB-867A-8B89F59C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E3E3-6FC7-40A2-B583-DAEF0D05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3115C-E491-439A-A847-FE7D64B9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2DAD8-7E11-440A-9F8E-E7BC168B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EE5F7-006B-41A0-8E85-C876D266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A4B1D-2724-4D62-A83E-502915CA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27E5C-1726-46C0-8000-F9EB6AB1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F8C3-B15E-4BB6-A78C-D197708D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9E73A-F760-4FEF-9FBF-48ADD007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FD3E1-3E6B-431E-B9F6-1798D40F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5DD63-9DE6-420D-9FBE-386D666E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95506-6DBB-4393-BD99-AB713677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4A5EB-608F-4876-9420-8A93A86A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A509F-8BD8-4090-ABED-2A843DBF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138C3-BE5A-4972-B6B1-3C97CFB0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A606A-9149-4629-8330-F0CCE1D3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168CB-1BA6-4C34-A756-A0554A42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11809-0697-4EB7-9F6B-2DFA1DA8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B61D-0CC4-486C-8DDE-B772B7F6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566D9-15ED-4F74-A0CA-629DBDF0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8BF60-CE22-40D7-8FD5-FCDBD2AE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46D5D-F63F-42B5-87F4-C4EBBE77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5F6F5-01C6-4C6C-989F-5F2CFCED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2F9EB-8479-4546-8E06-6B3B502D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1915E-A81C-4CC0-9DAF-B0B1BEAA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99782-3FA5-46D6-AA28-8F906C09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3F9AF-F8F8-40F5-B3A8-3FB56B94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A6D21-234B-4712-AE39-7278EDDC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37055-4F8F-4469-B929-BB4F82B7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98B2-CB31-4323-9C06-AE82D8F0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3BCE9-5AA7-4090-BC51-B6174000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BF5C4-ACA8-42FF-909D-08F97930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EEA57-1BB6-4A26-A91B-563E07F5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76A10-C900-484B-AB81-283772EB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5CDAB-3225-4258-8603-FF31C6B7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EE4C2-1205-4AED-B75C-9C73A97C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B1B01-CC99-44F0-B10F-9A06F136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06246-A99F-40CA-B8DE-9FA7F56F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205D5-FC88-46B6-B5E7-969A1362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3F010-C88E-4916-93EC-52928157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0464-369E-4E15-A88E-17728989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F348E-0274-4625-8396-10E1D405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707CD-2D58-48F6-A06A-A79207C7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B67B2-9E46-4B19-ADAF-190E51B2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FD674-BD6D-4EAC-B4D9-7BB8F674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763A0-FCB2-48C7-9FB5-98A789A9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52F2C-FA72-4164-A60A-516A75C5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7B6DF-A5D0-4853-8254-3136D0A6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66E22-0A02-4529-8AE5-CB9B06FA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B6600-E57B-47F3-B7FD-247A69A7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18B73-B482-43AF-90AF-BBDD6F7C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30CA-8B16-43F3-B2F5-4CE1412F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50D6D-8594-4F2F-9BA7-24962FDB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859F2-3689-4093-90D7-A016ECF1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35FF7-C902-4F53-BB42-A1A91639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3586F-99A2-408C-9932-C2C24C7A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DDF3E-08FB-4652-B7C0-FECC2F92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27BE7-A0A5-4306-8B5D-F1E43A41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59AE1-446E-4DDE-BA94-2D1D8673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75E79-E240-4628-9095-E3B06ECA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986BA-DE43-44E4-BD6C-820994B6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18749-7785-4E1D-964D-8ACE4F20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3417-B1DA-4FB7-A657-C26F56B9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07106-D2A9-40D0-B38B-F753CD8E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827BC-3873-48BA-A3BC-832BADA3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C0359-CAB8-47D0-BEB9-340E7661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0EE35-F3C4-43F3-83E1-3B0DB0F4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A5AB2-CC0F-4E24-AE68-AAF04CDE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77019-23DC-46D8-BB40-19F28035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01B5E-E2CF-4E97-8421-78B01BDD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591A1-F9F3-450F-8873-B41532C5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C241A-4FAD-499B-AE76-28D186B6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D518F-B21F-4026-9CA1-C47B4A7E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585A-BF63-4447-8555-1D5141B6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45EFD-6E50-474E-BB84-463E681E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DC65C-D580-4851-B34A-DA496E1D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200D7-4144-480D-BAD8-AE2E2374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93CC5-2119-4A95-B39B-C1B41257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0D9BA-145E-4722-AF53-396DD6C8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CB969-CCAB-4FB9-8D25-EA781503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5F87F-282D-428D-8E64-88FD0B22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1253B-F2E5-451C-B1BC-CE247272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E6782-A7EB-45EE-B64B-7D6CF264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A8A27-67CD-40A1-A36B-ED400132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08B8-2B56-4E38-B668-F6189E27DAE9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384F-FA27-4A24-9A23-FFF20766564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C592-1352-4652-AD4D-69874CB323A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61CE-35F2-4EFD-AEAB-6B3CE2206B2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18CA-7E62-4BDB-A7EC-6187E8E6EF6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5DEF-4AE2-4093-B0A2-B9FE6D6CB79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FA99-E650-4ED9-A959-C113016CAB2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341A-2C99-4387-83DC-11B3B12507A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95E8-CFBE-4209-822D-D154D8267C7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7DAC-16DB-47FE-8B81-989B99A08B7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BF55-7D01-47C2-89E6-2EAF7EC00D0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6780-CCDB-478C-BB23-C2CE17BAE74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3F5A-6894-4E39-8A6E-C2404249514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3 Rectángulo"/>
          <p:cNvSpPr/>
          <p:nvPr/>
        </p:nvSpPr>
        <p:spPr>
          <a:xfrm>
            <a:off x="539640" y="549360"/>
            <a:ext cx="80647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olilla 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Metabolismo de los líp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 </a:t>
            </a:r>
            <a:r>
              <a:rPr b="1" lang="es-AR" sz="2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Digestión y absorción de lípid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 Transporte de lípid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 Metabolismo del colesterol. Regulación molecula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 Degradación y biosíntesis de los lípidos. Cuerpos cetónic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Esquema General de la Digestión Lipídic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Cuadro de texto 5"/>
          <p:cNvSpPr/>
          <p:nvPr/>
        </p:nvSpPr>
        <p:spPr>
          <a:xfrm>
            <a:off x="539640" y="1700280"/>
            <a:ext cx="7848720" cy="116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LIPIDO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 Triglicéridos, Fosfolípidos y Coleste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itaminas liposolubles (A, D, E, 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Cuadro de texto 6"/>
          <p:cNvSpPr/>
          <p:nvPr/>
        </p:nvSpPr>
        <p:spPr>
          <a:xfrm>
            <a:off x="3276720" y="3284640"/>
            <a:ext cx="2447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LIPOL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Cuadro de texto 7"/>
          <p:cNvSpPr/>
          <p:nvPr/>
        </p:nvSpPr>
        <p:spPr>
          <a:xfrm>
            <a:off x="3059280" y="5589720"/>
            <a:ext cx="2808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BSORC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Línea 8"/>
          <p:cNvSpPr/>
          <p:nvPr/>
        </p:nvSpPr>
        <p:spPr>
          <a:xfrm>
            <a:off x="4572000" y="3933720"/>
            <a:ext cx="0" cy="136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Cuadro de texto 9"/>
          <p:cNvSpPr/>
          <p:nvPr/>
        </p:nvSpPr>
        <p:spPr>
          <a:xfrm>
            <a:off x="6012000" y="3579840"/>
            <a:ext cx="302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lice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noacilglicér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Ácidos grasos de cadena media y cor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Elipse 10"/>
          <p:cNvSpPr/>
          <p:nvPr/>
        </p:nvSpPr>
        <p:spPr>
          <a:xfrm>
            <a:off x="468360" y="3284640"/>
            <a:ext cx="1727280" cy="1152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Enzim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Digestiv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Elipse 11"/>
          <p:cNvSpPr/>
          <p:nvPr/>
        </p:nvSpPr>
        <p:spPr>
          <a:xfrm>
            <a:off x="468360" y="4941720"/>
            <a:ext cx="1727280" cy="11527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Sal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Bilia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23640" y="1980720"/>
            <a:ext cx="8569080" cy="4496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OC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ipasa salival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poca activ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STÓMAG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ipasa Gástrica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importante en niñ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TESTINO DEL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creti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Secreción de electrolitos y  líquidos  pancre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lecistoquini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racción Vesícula biliar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BI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NCREAS            Secreción de Enzi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Elipse 1028"/>
          <p:cNvSpPr/>
          <p:nvPr/>
        </p:nvSpPr>
        <p:spPr>
          <a:xfrm>
            <a:off x="468360" y="5229360"/>
            <a:ext cx="1152360" cy="54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int por c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uod y yeyun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Grupo 1031"/>
          <p:cNvGrpSpPr/>
          <p:nvPr/>
        </p:nvGrpSpPr>
        <p:grpSpPr>
          <a:xfrm>
            <a:off x="4140360" y="3716280"/>
            <a:ext cx="574560" cy="792000"/>
            <a:chOff x="4140360" y="3716280"/>
            <a:chExt cx="574560" cy="792000"/>
          </a:xfrm>
        </p:grpSpPr>
        <p:sp>
          <p:nvSpPr>
            <p:cNvPr id="558" name="Línea 6"/>
            <p:cNvSpPr/>
            <p:nvPr/>
          </p:nvSpPr>
          <p:spPr>
            <a:xfrm flipV="1">
              <a:off x="4140360" y="3716280"/>
              <a:ext cx="50292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ínea 7"/>
            <p:cNvSpPr/>
            <p:nvPr/>
          </p:nvSpPr>
          <p:spPr>
            <a:xfrm>
              <a:off x="4211640" y="4219560"/>
              <a:ext cx="50328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0" name="Línea 8"/>
          <p:cNvSpPr/>
          <p:nvPr/>
        </p:nvSpPr>
        <p:spPr>
          <a:xfrm>
            <a:off x="2771640" y="59500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Línea 9"/>
          <p:cNvSpPr/>
          <p:nvPr/>
        </p:nvSpPr>
        <p:spPr>
          <a:xfrm>
            <a:off x="1908000" y="5156280"/>
            <a:ext cx="57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Línea 10"/>
          <p:cNvSpPr/>
          <p:nvPr/>
        </p:nvSpPr>
        <p:spPr>
          <a:xfrm>
            <a:off x="6516720" y="587376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Línea 1032"/>
          <p:cNvSpPr/>
          <p:nvPr/>
        </p:nvSpPr>
        <p:spPr>
          <a:xfrm>
            <a:off x="5292720" y="6308640"/>
            <a:ext cx="550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Línea 1033"/>
          <p:cNvSpPr/>
          <p:nvPr/>
        </p:nvSpPr>
        <p:spPr>
          <a:xfrm>
            <a:off x="2700360" y="6093000"/>
            <a:ext cx="64764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Cuadro de texto 1036"/>
          <p:cNvSpPr/>
          <p:nvPr/>
        </p:nvSpPr>
        <p:spPr>
          <a:xfrm>
            <a:off x="4788000" y="3284640"/>
            <a:ext cx="18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ipasa Pancreá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Cuadro de texto 1038"/>
          <p:cNvSpPr/>
          <p:nvPr/>
        </p:nvSpPr>
        <p:spPr>
          <a:xfrm>
            <a:off x="4859280" y="436572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ales bilia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Imagen 2" descr=""/>
          <p:cNvPicPr/>
          <p:nvPr/>
        </p:nvPicPr>
        <p:blipFill>
          <a:blip r:embed="rId2"/>
          <a:stretch/>
        </p:blipFill>
        <p:spPr>
          <a:xfrm>
            <a:off x="681120" y="549360"/>
            <a:ext cx="792468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 Rounded MT Bold"/>
              </a:rPr>
              <a:t>Función de las sales bilia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 Rounded MT Bold"/>
              </a:rPr>
              <a:t>Actúan como deterg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Disminuyen la tensión superficial</a:t>
            </a:r>
            <a:r>
              <a:rPr b="0" lang="es-A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 emulsión de grasas </a:t>
            </a:r>
            <a:r>
              <a:rPr b="0" lang="es-A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 formación de partículas coloidales </a:t>
            </a:r>
            <a:r>
              <a:rPr b="0" lang="es-A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600" spc="-1" strike="noStrike" u="sng">
                <a:solidFill>
                  <a:srgbClr val="000000"/>
                </a:solidFill>
                <a:uFillTx/>
                <a:latin typeface="Arial Rounded MT Bold"/>
              </a:rPr>
              <a:t>MICELAS</a:t>
            </a: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Favorecen la acción de la lip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Favorecen la absorción de vitamin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Acción colerética (estimulan la producción de bil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ángulo 20"/>
          <p:cNvSpPr/>
          <p:nvPr/>
        </p:nvSpPr>
        <p:spPr>
          <a:xfrm>
            <a:off x="5292720" y="1916280"/>
            <a:ext cx="38512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Rounded MT Bold"/>
              </a:rPr>
              <a:t>Sales biliares y emulsión de gras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Cuadro de texto 6"/>
          <p:cNvSpPr/>
          <p:nvPr/>
        </p:nvSpPr>
        <p:spPr>
          <a:xfrm>
            <a:off x="900000" y="24210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Grupo 19"/>
          <p:cNvGrpSpPr/>
          <p:nvPr/>
        </p:nvGrpSpPr>
        <p:grpSpPr>
          <a:xfrm>
            <a:off x="468360" y="1916280"/>
            <a:ext cx="8675640" cy="3893760"/>
            <a:chOff x="468360" y="1916280"/>
            <a:chExt cx="8675640" cy="3893760"/>
          </a:xfrm>
        </p:grpSpPr>
        <p:pic>
          <p:nvPicPr>
            <p:cNvPr id="575" name="Imagen 3" descr="fi18p4"/>
            <p:cNvPicPr/>
            <p:nvPr/>
          </p:nvPicPr>
          <p:blipFill>
            <a:blip r:embed="rId1"/>
            <a:stretch/>
          </p:blipFill>
          <p:spPr>
            <a:xfrm>
              <a:off x="468360" y="2205000"/>
              <a:ext cx="8497800" cy="32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Cuadro de texto 7"/>
            <p:cNvSpPr/>
            <p:nvPr/>
          </p:nvSpPr>
          <p:spPr>
            <a:xfrm>
              <a:off x="826920" y="450864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do cólic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Cuadro de texto 8"/>
            <p:cNvSpPr/>
            <p:nvPr/>
          </p:nvSpPr>
          <p:spPr>
            <a:xfrm>
              <a:off x="1403280" y="256536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e hidrofób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Cuadro de texto 9"/>
            <p:cNvSpPr/>
            <p:nvPr/>
          </p:nvSpPr>
          <p:spPr>
            <a:xfrm>
              <a:off x="4067280" y="4437000"/>
              <a:ext cx="15127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e hidrofíl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Cuadro de texto 10"/>
            <p:cNvSpPr/>
            <p:nvPr/>
          </p:nvSpPr>
          <p:spPr>
            <a:xfrm>
              <a:off x="4140360" y="3429000"/>
              <a:ext cx="115236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ociac. con T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Cuadro de texto 11"/>
            <p:cNvSpPr/>
            <p:nvPr/>
          </p:nvSpPr>
          <p:spPr>
            <a:xfrm>
              <a:off x="2340000" y="5229360"/>
              <a:ext cx="187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Cuadro de texto 12"/>
            <p:cNvSpPr/>
            <p:nvPr/>
          </p:nvSpPr>
          <p:spPr>
            <a:xfrm>
              <a:off x="6084720" y="5229360"/>
              <a:ext cx="13669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CEL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Cuadro de texto 13"/>
            <p:cNvSpPr/>
            <p:nvPr/>
          </p:nvSpPr>
          <p:spPr>
            <a:xfrm>
              <a:off x="5364000" y="230040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Cuadro de texto 14"/>
            <p:cNvSpPr/>
            <p:nvPr/>
          </p:nvSpPr>
          <p:spPr>
            <a:xfrm>
              <a:off x="7451640" y="191628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pasa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ncreát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Cuadro de texto 15"/>
            <p:cNvSpPr/>
            <p:nvPr/>
          </p:nvSpPr>
          <p:spPr>
            <a:xfrm>
              <a:off x="7631280" y="2587680"/>
              <a:ext cx="15127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iacilglicero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Cuadro de texto 16"/>
            <p:cNvSpPr/>
            <p:nvPr/>
          </p:nvSpPr>
          <p:spPr>
            <a:xfrm>
              <a:off x="7740720" y="3860640"/>
              <a:ext cx="122400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gestión </a:t>
              </a: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pas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Cuadro de texto 17"/>
            <p:cNvSpPr/>
            <p:nvPr/>
          </p:nvSpPr>
          <p:spPr>
            <a:xfrm>
              <a:off x="7524720" y="5229360"/>
              <a:ext cx="9349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DO GRAS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7" name="Cuadro de texto 18"/>
          <p:cNvSpPr/>
          <p:nvPr/>
        </p:nvSpPr>
        <p:spPr>
          <a:xfrm>
            <a:off x="395280" y="587700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olipas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Péptido que forma complejo con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ip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3 Rectángulo"/>
          <p:cNvSpPr/>
          <p:nvPr/>
        </p:nvSpPr>
        <p:spPr>
          <a:xfrm>
            <a:off x="415800" y="404640"/>
            <a:ext cx="8496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aceites contienen una considerable cantidad de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ácidos grasos insaturados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, como los ÁCIDOS OLEICO Y LINOLEICO, que tienden a ser líquidos a temperatura corporal, se absorben con relativa facili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Mientras que los lípidos que contienen mayoritariamente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ácidos grasos saturados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, como los ÁCIDOS PALMÍTICO Y ESTEÁRICO, se digieren y absorben más lentam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productos de digestión de las grasas están constituidos por una mezcla 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glicerol, ácidos grasos libres y  monoacilgliceroles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Menos del 10% de los triglicéridos originales permanecen sin hidroliz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Rounded MT Bold"/>
              </a:rPr>
              <a:t>Enzimas Digestivas: </a:t>
            </a:r>
            <a:r>
              <a:rPr b="1" i="1" lang="es-ES" sz="3600" spc="-1" strike="noStrike">
                <a:solidFill>
                  <a:srgbClr val="000000"/>
                </a:solidFill>
                <a:latin typeface="Arial Rounded MT Bold"/>
              </a:rPr>
              <a:t>LIPAS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8569080" cy="4464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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-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 lipasa</a:t>
            </a:r>
            <a:r>
              <a:rPr b="0" lang="es-ES" sz="2400" spc="-1" strike="noStrike">
                <a:solidFill>
                  <a:srgbClr val="ff3300"/>
                </a:solidFill>
                <a:latin typeface="Arial Rounded MT Bold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</a:t>
            </a:r>
            <a:r>
              <a:rPr b="0" lang="es-ES" sz="2400" spc="-1" strike="noStrike">
                <a:solidFill>
                  <a:srgbClr val="ff3300"/>
                </a:solidFill>
                <a:latin typeface="Arial Rounded MT Bold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taca uniones éster de posición 1 y 3 de los TG dejando monoglicéridos esterificados en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Esterasa 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Hidroliza la unión 2 del monoglicéri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Fosfolipasa A</a:t>
            </a:r>
            <a:r>
              <a:rPr b="1" i="1" lang="es-ES" sz="2400" spc="-1" strike="noStrike" u="sng" baseline="-25000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Actúa sobre el C 2 de lecit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Fosfatasa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Hidroliza unión fosfato de lisolecit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Colesterol esterasa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Actúa sobre ésteres de coleste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1" name="Grupo 1033"/>
          <p:cNvGrpSpPr/>
          <p:nvPr/>
        </p:nvGrpSpPr>
        <p:grpSpPr>
          <a:xfrm>
            <a:off x="684360" y="1628640"/>
            <a:ext cx="7777080" cy="825480"/>
            <a:chOff x="684360" y="1628640"/>
            <a:chExt cx="7777080" cy="825480"/>
          </a:xfrm>
        </p:grpSpPr>
        <p:sp>
          <p:nvSpPr>
            <p:cNvPr id="592" name="Cuadro de texto 1031"/>
            <p:cNvSpPr/>
            <p:nvPr/>
          </p:nvSpPr>
          <p:spPr>
            <a:xfrm>
              <a:off x="684360" y="1628640"/>
              <a:ext cx="7777080" cy="825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IGLICERIDOS               GLICEROL  +  AC. GRA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Línea 1032"/>
            <p:cNvSpPr/>
            <p:nvPr/>
          </p:nvSpPr>
          <p:spPr>
            <a:xfrm>
              <a:off x="3419640" y="1844640"/>
              <a:ext cx="792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ángulo 109"/>
          <p:cNvSpPr/>
          <p:nvPr/>
        </p:nvSpPr>
        <p:spPr>
          <a:xfrm rot="16200000">
            <a:off x="7661880" y="439416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c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sos Lib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Línea 58"/>
          <p:cNvSpPr/>
          <p:nvPr/>
        </p:nvSpPr>
        <p:spPr>
          <a:xfrm>
            <a:off x="6354720" y="3782880"/>
            <a:ext cx="0" cy="141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Línea 66"/>
          <p:cNvSpPr/>
          <p:nvPr/>
        </p:nvSpPr>
        <p:spPr>
          <a:xfrm>
            <a:off x="6353280" y="5370480"/>
            <a:ext cx="0" cy="139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Línea 67"/>
          <p:cNvSpPr/>
          <p:nvPr/>
        </p:nvSpPr>
        <p:spPr>
          <a:xfrm>
            <a:off x="6469200" y="5268960"/>
            <a:ext cx="1220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Línea 70"/>
          <p:cNvSpPr/>
          <p:nvPr/>
        </p:nvSpPr>
        <p:spPr>
          <a:xfrm>
            <a:off x="6130800" y="526572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Línea 72"/>
          <p:cNvSpPr/>
          <p:nvPr/>
        </p:nvSpPr>
        <p:spPr>
          <a:xfrm>
            <a:off x="6124680" y="399240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0" name="Grupo 136"/>
          <p:cNvGrpSpPr/>
          <p:nvPr/>
        </p:nvGrpSpPr>
        <p:grpSpPr>
          <a:xfrm>
            <a:off x="7020000" y="3003480"/>
            <a:ext cx="2116440" cy="820080"/>
            <a:chOff x="7020000" y="3003480"/>
            <a:chExt cx="2116440" cy="820080"/>
          </a:xfrm>
        </p:grpSpPr>
        <p:grpSp>
          <p:nvGrpSpPr>
            <p:cNvPr id="601" name="Grupo 135"/>
            <p:cNvGrpSpPr/>
            <p:nvPr/>
          </p:nvGrpSpPr>
          <p:grpSpPr>
            <a:xfrm>
              <a:off x="7020000" y="3003480"/>
              <a:ext cx="2116440" cy="820080"/>
              <a:chOff x="7020000" y="3003480"/>
              <a:chExt cx="2116440" cy="820080"/>
            </a:xfrm>
          </p:grpSpPr>
          <p:grpSp>
            <p:nvGrpSpPr>
              <p:cNvPr id="602" name="Grupo 134"/>
              <p:cNvGrpSpPr/>
              <p:nvPr/>
            </p:nvGrpSpPr>
            <p:grpSpPr>
              <a:xfrm>
                <a:off x="7020000" y="3003480"/>
                <a:ext cx="1701720" cy="795960"/>
                <a:chOff x="7020000" y="3003480"/>
                <a:chExt cx="1701720" cy="795960"/>
              </a:xfrm>
            </p:grpSpPr>
            <p:sp>
              <p:nvSpPr>
                <p:cNvPr id="603" name="Rectángulo 56"/>
                <p:cNvSpPr/>
                <p:nvPr/>
              </p:nvSpPr>
              <p:spPr>
                <a:xfrm>
                  <a:off x="7020000" y="3438360"/>
                  <a:ext cx="533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4" name="Rectángulo 75"/>
                <p:cNvSpPr/>
                <p:nvPr/>
              </p:nvSpPr>
              <p:spPr>
                <a:xfrm>
                  <a:off x="7542000" y="3431880"/>
                  <a:ext cx="32688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5" name="Rectángulo 76"/>
                <p:cNvSpPr/>
                <p:nvPr/>
              </p:nvSpPr>
              <p:spPr>
                <a:xfrm>
                  <a:off x="7853400" y="3428640"/>
                  <a:ext cx="8683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6" name="Rectángulo 81"/>
                <p:cNvSpPr/>
                <p:nvPr/>
              </p:nvSpPr>
              <p:spPr>
                <a:xfrm>
                  <a:off x="7524720" y="3003480"/>
                  <a:ext cx="2826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7" name="Línea 77"/>
                <p:cNvSpPr/>
                <p:nvPr/>
              </p:nvSpPr>
              <p:spPr>
                <a:xfrm>
                  <a:off x="7835760" y="3573360"/>
                  <a:ext cx="12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8" name="Línea 78"/>
                <p:cNvSpPr/>
                <p:nvPr/>
              </p:nvSpPr>
              <p:spPr>
                <a:xfrm>
                  <a:off x="7424640" y="356544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9" name="Línea 79"/>
                <p:cNvSpPr/>
                <p:nvPr/>
              </p:nvSpPr>
              <p:spPr>
                <a:xfrm>
                  <a:off x="7667640" y="3322440"/>
                  <a:ext cx="144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0" name="Línea 80"/>
                <p:cNvSpPr/>
                <p:nvPr/>
              </p:nvSpPr>
              <p:spPr>
                <a:xfrm>
                  <a:off x="7723080" y="3321000"/>
                  <a:ext cx="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11" name="Rectángulo 83"/>
              <p:cNvSpPr/>
              <p:nvPr/>
            </p:nvSpPr>
            <p:spPr>
              <a:xfrm>
                <a:off x="8597520" y="3452760"/>
                <a:ext cx="538920" cy="3708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2" name="Línea 82"/>
            <p:cNvSpPr/>
            <p:nvPr/>
          </p:nvSpPr>
          <p:spPr>
            <a:xfrm>
              <a:off x="8483760" y="3581280"/>
              <a:ext cx="12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3" name="Línea 91"/>
          <p:cNvSpPr/>
          <p:nvPr/>
        </p:nvSpPr>
        <p:spPr>
          <a:xfrm>
            <a:off x="7818480" y="4632480"/>
            <a:ext cx="123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Rectángulo 107"/>
          <p:cNvSpPr/>
          <p:nvPr/>
        </p:nvSpPr>
        <p:spPr>
          <a:xfrm>
            <a:off x="3277080" y="4149720"/>
            <a:ext cx="14608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p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creá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 6-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Cuadro de texto 110"/>
          <p:cNvSpPr/>
          <p:nvPr/>
        </p:nvSpPr>
        <p:spPr>
          <a:xfrm>
            <a:off x="395280" y="303120"/>
            <a:ext cx="8353440" cy="10263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Lipólisis de Triglicéridos p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Acción de </a:t>
            </a:r>
            <a:r>
              <a:rPr b="1" i="1" lang="en-US" sz="3600" spc="-1" strike="noStrike">
                <a:solidFill>
                  <a:srgbClr val="000000"/>
                </a:solidFill>
                <a:latin typeface="Arial Rounded MT Bold"/>
              </a:rPr>
              <a:t>Lipasa Pancreá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ángulo 112"/>
          <p:cNvSpPr/>
          <p:nvPr/>
        </p:nvSpPr>
        <p:spPr>
          <a:xfrm>
            <a:off x="6348960" y="6323040"/>
            <a:ext cx="198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bles en micel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Cuadro de texto 114"/>
          <p:cNvSpPr/>
          <p:nvPr/>
        </p:nvSpPr>
        <p:spPr>
          <a:xfrm>
            <a:off x="4427640" y="3141720"/>
            <a:ext cx="21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ángulo 111"/>
          <p:cNvSpPr/>
          <p:nvPr/>
        </p:nvSpPr>
        <p:spPr>
          <a:xfrm>
            <a:off x="1042200" y="6308640"/>
            <a:ext cx="2125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olubles en micel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Rectángulo 132"/>
          <p:cNvSpPr/>
          <p:nvPr/>
        </p:nvSpPr>
        <p:spPr>
          <a:xfrm>
            <a:off x="4650840" y="5589720"/>
            <a:ext cx="187236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glicéri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Línea 133"/>
          <p:cNvSpPr/>
          <p:nvPr/>
        </p:nvSpPr>
        <p:spPr>
          <a:xfrm>
            <a:off x="3348000" y="494172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Grupo 138"/>
          <p:cNvGrpSpPr/>
          <p:nvPr/>
        </p:nvGrpSpPr>
        <p:grpSpPr>
          <a:xfrm>
            <a:off x="7051680" y="5373720"/>
            <a:ext cx="2046600" cy="724680"/>
            <a:chOff x="7051680" y="5373720"/>
            <a:chExt cx="2046600" cy="724680"/>
          </a:xfrm>
        </p:grpSpPr>
        <p:grpSp>
          <p:nvGrpSpPr>
            <p:cNvPr id="622" name="Grupo 137"/>
            <p:cNvGrpSpPr/>
            <p:nvPr/>
          </p:nvGrpSpPr>
          <p:grpSpPr>
            <a:xfrm>
              <a:off x="7051680" y="5373720"/>
              <a:ext cx="2046600" cy="724680"/>
              <a:chOff x="7051680" y="5373720"/>
              <a:chExt cx="2046600" cy="724680"/>
            </a:xfrm>
          </p:grpSpPr>
          <p:grpSp>
            <p:nvGrpSpPr>
              <p:cNvPr id="623" name="Grupo 131"/>
              <p:cNvGrpSpPr/>
              <p:nvPr/>
            </p:nvGrpSpPr>
            <p:grpSpPr>
              <a:xfrm>
                <a:off x="7051680" y="5373720"/>
                <a:ext cx="2046600" cy="724680"/>
                <a:chOff x="7051680" y="5373720"/>
                <a:chExt cx="2046600" cy="724680"/>
              </a:xfrm>
            </p:grpSpPr>
            <p:sp>
              <p:nvSpPr>
                <p:cNvPr id="624" name="Rectángulo 74"/>
                <p:cNvSpPr/>
                <p:nvPr/>
              </p:nvSpPr>
              <p:spPr>
                <a:xfrm>
                  <a:off x="7051680" y="5682960"/>
                  <a:ext cx="6858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5" name="Rectángulo 94"/>
                <p:cNvSpPr/>
                <p:nvPr/>
              </p:nvSpPr>
              <p:spPr>
                <a:xfrm>
                  <a:off x="7804080" y="5697360"/>
                  <a:ext cx="8035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tángulo 99"/>
                <p:cNvSpPr/>
                <p:nvPr/>
              </p:nvSpPr>
              <p:spPr>
                <a:xfrm>
                  <a:off x="7513560" y="5373720"/>
                  <a:ext cx="281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Rectángulo 101"/>
                <p:cNvSpPr/>
                <p:nvPr/>
              </p:nvSpPr>
              <p:spPr>
                <a:xfrm>
                  <a:off x="8559360" y="5727600"/>
                  <a:ext cx="5389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8" name="Rectángulo 93"/>
              <p:cNvSpPr/>
              <p:nvPr/>
            </p:nvSpPr>
            <p:spPr>
              <a:xfrm>
                <a:off x="7505640" y="5681520"/>
                <a:ext cx="326880" cy="33732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Línea 100"/>
              <p:cNvSpPr/>
              <p:nvPr/>
            </p:nvSpPr>
            <p:spPr>
              <a:xfrm>
                <a:off x="8488440" y="58528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0" name="Línea 95"/>
            <p:cNvSpPr/>
            <p:nvPr/>
          </p:nvSpPr>
          <p:spPr>
            <a:xfrm>
              <a:off x="7746840" y="584352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Línea 96"/>
            <p:cNvSpPr/>
            <p:nvPr/>
          </p:nvSpPr>
          <p:spPr>
            <a:xfrm>
              <a:off x="7462800" y="583560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Línea 97"/>
            <p:cNvSpPr/>
            <p:nvPr/>
          </p:nvSpPr>
          <p:spPr>
            <a:xfrm>
              <a:off x="7648560" y="5628960"/>
              <a:ext cx="1440" cy="12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Línea 98"/>
            <p:cNvSpPr/>
            <p:nvPr/>
          </p:nvSpPr>
          <p:spPr>
            <a:xfrm>
              <a:off x="7704000" y="5627520"/>
              <a:ext cx="0" cy="12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4" name="Rectángulo 151"/>
          <p:cNvSpPr/>
          <p:nvPr/>
        </p:nvSpPr>
        <p:spPr>
          <a:xfrm>
            <a:off x="4932360" y="5084640"/>
            <a:ext cx="287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5" name="Grupo 155"/>
          <p:cNvGrpSpPr/>
          <p:nvPr/>
        </p:nvGrpSpPr>
        <p:grpSpPr>
          <a:xfrm>
            <a:off x="4859280" y="3860640"/>
            <a:ext cx="2780280" cy="1618200"/>
            <a:chOff x="4859280" y="3860640"/>
            <a:chExt cx="2780280" cy="1618200"/>
          </a:xfrm>
        </p:grpSpPr>
        <p:grpSp>
          <p:nvGrpSpPr>
            <p:cNvPr id="636" name="Grupo 153"/>
            <p:cNvGrpSpPr/>
            <p:nvPr/>
          </p:nvGrpSpPr>
          <p:grpSpPr>
            <a:xfrm>
              <a:off x="4859280" y="3860640"/>
              <a:ext cx="2780280" cy="1618200"/>
              <a:chOff x="4859280" y="3860640"/>
              <a:chExt cx="2780280" cy="1618200"/>
            </a:xfrm>
          </p:grpSpPr>
          <p:grpSp>
            <p:nvGrpSpPr>
              <p:cNvPr id="637" name="Grupo 150"/>
              <p:cNvGrpSpPr/>
              <p:nvPr/>
            </p:nvGrpSpPr>
            <p:grpSpPr>
              <a:xfrm>
                <a:off x="4859280" y="3860640"/>
                <a:ext cx="2780280" cy="1618200"/>
                <a:chOff x="4859280" y="3860640"/>
                <a:chExt cx="2780280" cy="1618200"/>
              </a:xfrm>
            </p:grpSpPr>
            <p:grpSp>
              <p:nvGrpSpPr>
                <p:cNvPr id="638" name="Grupo 141"/>
                <p:cNvGrpSpPr/>
                <p:nvPr/>
              </p:nvGrpSpPr>
              <p:grpSpPr>
                <a:xfrm>
                  <a:off x="4859280" y="3860640"/>
                  <a:ext cx="2780280" cy="1618200"/>
                  <a:chOff x="4859280" y="3860640"/>
                  <a:chExt cx="2780280" cy="1618200"/>
                </a:xfrm>
              </p:grpSpPr>
              <p:grpSp>
                <p:nvGrpSpPr>
                  <p:cNvPr id="639" name="Grupo 140"/>
                  <p:cNvGrpSpPr/>
                  <p:nvPr/>
                </p:nvGrpSpPr>
                <p:grpSpPr>
                  <a:xfrm>
                    <a:off x="4859280" y="3860640"/>
                    <a:ext cx="2780280" cy="1618200"/>
                    <a:chOff x="4859280" y="3860640"/>
                    <a:chExt cx="2780280" cy="1618200"/>
                  </a:xfrm>
                </p:grpSpPr>
                <p:grpSp>
                  <p:nvGrpSpPr>
                    <p:cNvPr id="640" name="Grupo 139"/>
                    <p:cNvGrpSpPr/>
                    <p:nvPr/>
                  </p:nvGrpSpPr>
                  <p:grpSpPr>
                    <a:xfrm>
                      <a:off x="4859280" y="3860640"/>
                      <a:ext cx="2780280" cy="1618200"/>
                      <a:chOff x="4859280" y="3860640"/>
                      <a:chExt cx="2780280" cy="1618200"/>
                    </a:xfrm>
                  </p:grpSpPr>
                  <p:sp>
                    <p:nvSpPr>
                      <p:cNvPr id="641" name="Rectángulo 55"/>
                      <p:cNvSpPr/>
                      <p:nvPr/>
                    </p:nvSpPr>
                    <p:spPr>
                      <a:xfrm>
                        <a:off x="5183280" y="386820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2" name="Rectángulo 57"/>
                      <p:cNvSpPr/>
                      <p:nvPr/>
                    </p:nvSpPr>
                    <p:spPr>
                      <a:xfrm>
                        <a:off x="4859280" y="4436640"/>
                        <a:ext cx="3016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3" name="Rectángulo 84"/>
                      <p:cNvSpPr/>
                      <p:nvPr/>
                    </p:nvSpPr>
                    <p:spPr>
                      <a:xfrm>
                        <a:off x="5891040" y="446040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4" name="Rectángulo 85"/>
                      <p:cNvSpPr/>
                      <p:nvPr/>
                    </p:nvSpPr>
                    <p:spPr>
                      <a:xfrm>
                        <a:off x="6300720" y="4460400"/>
                        <a:ext cx="8683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(C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)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5" name="Rectángulo 90"/>
                      <p:cNvSpPr/>
                      <p:nvPr/>
                    </p:nvSpPr>
                    <p:spPr>
                      <a:xfrm>
                        <a:off x="5867280" y="4122360"/>
                        <a:ext cx="3160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6" name="Rectángulo 92"/>
                      <p:cNvSpPr/>
                      <p:nvPr/>
                    </p:nvSpPr>
                    <p:spPr>
                      <a:xfrm>
                        <a:off x="7100640" y="4460400"/>
                        <a:ext cx="5389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7" name="Rectángulo 103"/>
                      <p:cNvSpPr/>
                      <p:nvPr/>
                    </p:nvSpPr>
                    <p:spPr>
                      <a:xfrm>
                        <a:off x="4916160" y="5084280"/>
                        <a:ext cx="31032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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8" name="Rectángulo 106"/>
                      <p:cNvSpPr/>
                      <p:nvPr/>
                    </p:nvSpPr>
                    <p:spPr>
                      <a:xfrm>
                        <a:off x="5435640" y="5108040"/>
                        <a:ext cx="43164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9" name="Rectángulo 54"/>
                      <p:cNvSpPr/>
                      <p:nvPr/>
                    </p:nvSpPr>
                    <p:spPr>
                      <a:xfrm>
                        <a:off x="5148360" y="4436640"/>
                        <a:ext cx="33012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0" name="Línea 59"/>
                      <p:cNvSpPr/>
                      <p:nvPr/>
                    </p:nvSpPr>
                    <p:spPr>
                      <a:xfrm>
                        <a:off x="5292720" y="4149360"/>
                        <a:ext cx="0" cy="36936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1" name="Línea 68"/>
                      <p:cNvSpPr/>
                      <p:nvPr/>
                    </p:nvSpPr>
                    <p:spPr>
                      <a:xfrm>
                        <a:off x="5292720" y="4723920"/>
                        <a:ext cx="0" cy="36972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2" name="Línea 87"/>
                      <p:cNvSpPr/>
                      <p:nvPr/>
                    </p:nvSpPr>
                    <p:spPr>
                      <a:xfrm>
                        <a:off x="7020000" y="4676400"/>
                        <a:ext cx="1220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3" name="Línea 86"/>
                      <p:cNvSpPr/>
                      <p:nvPr/>
                    </p:nvSpPr>
                    <p:spPr>
                      <a:xfrm>
                        <a:off x="6156360" y="4652640"/>
                        <a:ext cx="1220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4" name="Rectángulo 73"/>
                      <p:cNvSpPr/>
                      <p:nvPr/>
                    </p:nvSpPr>
                    <p:spPr>
                      <a:xfrm>
                        <a:off x="5508720" y="4436640"/>
                        <a:ext cx="28080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5" name="Rectángulo 105"/>
                      <p:cNvSpPr/>
                      <p:nvPr/>
                    </p:nvSpPr>
                    <p:spPr>
                      <a:xfrm>
                        <a:off x="5435640" y="3860640"/>
                        <a:ext cx="4381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656" name="Rectángulo 102"/>
                    <p:cNvSpPr/>
                    <p:nvPr/>
                  </p:nvSpPr>
                  <p:spPr>
                    <a:xfrm>
                      <a:off x="5364000" y="4076280"/>
                      <a:ext cx="301680" cy="368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7" name="Rectángulo 104"/>
                    <p:cNvSpPr/>
                    <p:nvPr/>
                  </p:nvSpPr>
                  <p:spPr>
                    <a:xfrm>
                      <a:off x="5294160" y="4676400"/>
                      <a:ext cx="2919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8" name="Línea 61"/>
                    <p:cNvSpPr/>
                    <p:nvPr/>
                  </p:nvSpPr>
                  <p:spPr>
                    <a:xfrm>
                      <a:off x="5796000" y="4652640"/>
                      <a:ext cx="122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9" name="Línea 88"/>
                    <p:cNvSpPr/>
                    <p:nvPr/>
                  </p:nvSpPr>
                  <p:spPr>
                    <a:xfrm>
                      <a:off x="6012000" y="4365360"/>
                      <a:ext cx="1440" cy="1216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60" name="Línea 89"/>
                    <p:cNvSpPr/>
                    <p:nvPr/>
                  </p:nvSpPr>
                  <p:spPr>
                    <a:xfrm>
                      <a:off x="6067440" y="4376520"/>
                      <a:ext cx="0" cy="1216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61" name="Línea 60"/>
                    <p:cNvSpPr/>
                    <p:nvPr/>
                  </p:nvSpPr>
                  <p:spPr>
                    <a:xfrm>
                      <a:off x="5435640" y="4652640"/>
                      <a:ext cx="122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662" name="Rectángulo 64"/>
                  <p:cNvSpPr/>
                  <p:nvPr/>
                </p:nvSpPr>
                <p:spPr>
                  <a:xfrm>
                    <a:off x="5170320" y="5116320"/>
                    <a:ext cx="32688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663" name="Rectángulo 149"/>
                <p:cNvSpPr/>
                <p:nvPr/>
              </p:nvSpPr>
              <p:spPr>
                <a:xfrm>
                  <a:off x="4932360" y="5092560"/>
                  <a:ext cx="287280" cy="360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4" name="Rectángulo 152"/>
              <p:cNvSpPr/>
              <p:nvPr/>
            </p:nvSpPr>
            <p:spPr>
              <a:xfrm>
                <a:off x="5364000" y="4732200"/>
                <a:ext cx="216000" cy="28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5" name="Rectángulo 154"/>
            <p:cNvSpPr/>
            <p:nvPr/>
          </p:nvSpPr>
          <p:spPr>
            <a:xfrm>
              <a:off x="5364000" y="4228920"/>
              <a:ext cx="28764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6" name="Grupo 178"/>
          <p:cNvGrpSpPr/>
          <p:nvPr/>
        </p:nvGrpSpPr>
        <p:grpSpPr>
          <a:xfrm>
            <a:off x="250920" y="2997360"/>
            <a:ext cx="2705400" cy="3148200"/>
            <a:chOff x="250920" y="2997360"/>
            <a:chExt cx="2705400" cy="3148200"/>
          </a:xfrm>
        </p:grpSpPr>
        <p:sp>
          <p:nvSpPr>
            <p:cNvPr id="667" name="Rectángulo 47"/>
            <p:cNvSpPr/>
            <p:nvPr/>
          </p:nvSpPr>
          <p:spPr>
            <a:xfrm>
              <a:off x="1227240" y="4317840"/>
              <a:ext cx="280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8" name="Grupo 177"/>
            <p:cNvGrpSpPr/>
            <p:nvPr/>
          </p:nvGrpSpPr>
          <p:grpSpPr>
            <a:xfrm>
              <a:off x="250920" y="2997360"/>
              <a:ext cx="2705400" cy="3148200"/>
              <a:chOff x="250920" y="2997360"/>
              <a:chExt cx="2705400" cy="3148200"/>
            </a:xfrm>
          </p:grpSpPr>
          <p:sp>
            <p:nvSpPr>
              <p:cNvPr id="669" name="Rectángulo 49"/>
              <p:cNvSpPr/>
              <p:nvPr/>
            </p:nvSpPr>
            <p:spPr>
              <a:xfrm>
                <a:off x="2417400" y="4579920"/>
                <a:ext cx="53892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Rectángulo 163"/>
              <p:cNvSpPr/>
              <p:nvPr/>
            </p:nvSpPr>
            <p:spPr>
              <a:xfrm>
                <a:off x="1617840" y="4579920"/>
                <a:ext cx="86832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Línea 164"/>
              <p:cNvSpPr/>
              <p:nvPr/>
            </p:nvSpPr>
            <p:spPr>
              <a:xfrm>
                <a:off x="2289240" y="4724280"/>
                <a:ext cx="120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72" name="Grupo 176"/>
              <p:cNvGrpSpPr/>
              <p:nvPr/>
            </p:nvGrpSpPr>
            <p:grpSpPr>
              <a:xfrm>
                <a:off x="250920" y="2997360"/>
                <a:ext cx="2705400" cy="3148200"/>
                <a:chOff x="250920" y="2997360"/>
                <a:chExt cx="2705400" cy="3148200"/>
              </a:xfrm>
            </p:grpSpPr>
            <p:sp>
              <p:nvSpPr>
                <p:cNvPr id="673" name="Rectángulo 13"/>
                <p:cNvSpPr/>
                <p:nvPr/>
              </p:nvSpPr>
              <p:spPr>
                <a:xfrm>
                  <a:off x="574560" y="4962240"/>
                  <a:ext cx="301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Rectángulo 12"/>
                <p:cNvSpPr/>
                <p:nvPr/>
              </p:nvSpPr>
              <p:spPr>
                <a:xfrm>
                  <a:off x="561960" y="4618080"/>
                  <a:ext cx="326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5" name="Línea 14"/>
                <p:cNvSpPr/>
                <p:nvPr/>
              </p:nvSpPr>
              <p:spPr>
                <a:xfrm>
                  <a:off x="736560" y="4878360"/>
                  <a:ext cx="0" cy="139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6" name="Rectángulo 17"/>
                <p:cNvSpPr/>
                <p:nvPr/>
              </p:nvSpPr>
              <p:spPr>
                <a:xfrm>
                  <a:off x="258840" y="4627440"/>
                  <a:ext cx="301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7" name="Línea 18"/>
                <p:cNvSpPr/>
                <p:nvPr/>
              </p:nvSpPr>
              <p:spPr>
                <a:xfrm>
                  <a:off x="514440" y="477360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8" name="Rectángulo 22"/>
                <p:cNvSpPr/>
                <p:nvPr/>
              </p:nvSpPr>
              <p:spPr>
                <a:xfrm>
                  <a:off x="952560" y="4626000"/>
                  <a:ext cx="28260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9" name="Rectángulo 41"/>
                <p:cNvSpPr/>
                <p:nvPr/>
              </p:nvSpPr>
              <p:spPr>
                <a:xfrm>
                  <a:off x="1218960" y="4624200"/>
                  <a:ext cx="326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0" name="Línea 43"/>
                <p:cNvSpPr/>
                <p:nvPr/>
              </p:nvSpPr>
              <p:spPr>
                <a:xfrm>
                  <a:off x="1460520" y="4786200"/>
                  <a:ext cx="12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1" name="Línea 15"/>
                <p:cNvSpPr/>
                <p:nvPr/>
              </p:nvSpPr>
              <p:spPr>
                <a:xfrm>
                  <a:off x="838080" y="4768920"/>
                  <a:ext cx="122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2" name="Línea 46"/>
                <p:cNvSpPr/>
                <p:nvPr/>
              </p:nvSpPr>
              <p:spPr>
                <a:xfrm>
                  <a:off x="1417680" y="4591080"/>
                  <a:ext cx="0" cy="120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83" name="Grupo 170"/>
                <p:cNvGrpSpPr/>
                <p:nvPr/>
              </p:nvGrpSpPr>
              <p:grpSpPr>
                <a:xfrm>
                  <a:off x="250920" y="2997360"/>
                  <a:ext cx="2705400" cy="3148200"/>
                  <a:chOff x="250920" y="2997360"/>
                  <a:chExt cx="2705400" cy="3148200"/>
                </a:xfrm>
              </p:grpSpPr>
              <p:sp>
                <p:nvSpPr>
                  <p:cNvPr id="684" name="Rectángulo 40"/>
                  <p:cNvSpPr/>
                  <p:nvPr/>
                </p:nvSpPr>
                <p:spPr>
                  <a:xfrm>
                    <a:off x="2417400" y="4005000"/>
                    <a:ext cx="5389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5" name="Rectángulo 32"/>
                  <p:cNvSpPr/>
                  <p:nvPr/>
                </p:nvSpPr>
                <p:spPr>
                  <a:xfrm>
                    <a:off x="1222200" y="4005000"/>
                    <a:ext cx="32688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6" name="Rectángulo 38"/>
                  <p:cNvSpPr/>
                  <p:nvPr/>
                </p:nvSpPr>
                <p:spPr>
                  <a:xfrm>
                    <a:off x="1209600" y="3679560"/>
                    <a:ext cx="28116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7" name="Línea 34"/>
                  <p:cNvSpPr/>
                  <p:nvPr/>
                </p:nvSpPr>
                <p:spPr>
                  <a:xfrm>
                    <a:off x="1460520" y="4133520"/>
                    <a:ext cx="122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8" name="Línea 35"/>
                  <p:cNvSpPr/>
                  <p:nvPr/>
                </p:nvSpPr>
                <p:spPr>
                  <a:xfrm>
                    <a:off x="1162080" y="4163760"/>
                    <a:ext cx="122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9" name="Línea 36"/>
                  <p:cNvSpPr/>
                  <p:nvPr/>
                </p:nvSpPr>
                <p:spPr>
                  <a:xfrm>
                    <a:off x="1347840" y="3956040"/>
                    <a:ext cx="1440" cy="121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0" name="Línea 37"/>
                  <p:cNvSpPr/>
                  <p:nvPr/>
                </p:nvSpPr>
                <p:spPr>
                  <a:xfrm>
                    <a:off x="1403280" y="3954240"/>
                    <a:ext cx="0" cy="12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1" name="Rectángulo 162"/>
                  <p:cNvSpPr/>
                  <p:nvPr/>
                </p:nvSpPr>
                <p:spPr>
                  <a:xfrm>
                    <a:off x="1617840" y="4005000"/>
                    <a:ext cx="8683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(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)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2" name="Línea 165"/>
                  <p:cNvSpPr/>
                  <p:nvPr/>
                </p:nvSpPr>
                <p:spPr>
                  <a:xfrm>
                    <a:off x="2289240" y="4147920"/>
                    <a:ext cx="12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693" name="Grupo 169"/>
                  <p:cNvGrpSpPr/>
                  <p:nvPr/>
                </p:nvGrpSpPr>
                <p:grpSpPr>
                  <a:xfrm>
                    <a:off x="250920" y="2997360"/>
                    <a:ext cx="2562480" cy="3148200"/>
                    <a:chOff x="250920" y="2997360"/>
                    <a:chExt cx="2562480" cy="3148200"/>
                  </a:xfrm>
                </p:grpSpPr>
                <p:sp>
                  <p:nvSpPr>
                    <p:cNvPr id="694" name="Rectángulo 29"/>
                    <p:cNvSpPr/>
                    <p:nvPr/>
                  </p:nvSpPr>
                  <p:spPr>
                    <a:xfrm>
                      <a:off x="1225440" y="2997360"/>
                      <a:ext cx="28260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5" name="Rectángulo 24"/>
                    <p:cNvSpPr/>
                    <p:nvPr/>
                  </p:nvSpPr>
                  <p:spPr>
                    <a:xfrm>
                      <a:off x="1528920" y="3350880"/>
                      <a:ext cx="868320" cy="37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6" name="Línea 30"/>
                    <p:cNvSpPr/>
                    <p:nvPr/>
                  </p:nvSpPr>
                  <p:spPr>
                    <a:xfrm>
                      <a:off x="2203560" y="352404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7" name="Rectángulo 31"/>
                    <p:cNvSpPr/>
                    <p:nvPr/>
                  </p:nvSpPr>
                  <p:spPr>
                    <a:xfrm>
                      <a:off x="2274480" y="3355920"/>
                      <a:ext cx="538920" cy="37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8" name="Línea 27"/>
                    <p:cNvSpPr/>
                    <p:nvPr/>
                  </p:nvSpPr>
                  <p:spPr>
                    <a:xfrm>
                      <a:off x="1346400" y="3286080"/>
                      <a:ext cx="1440" cy="101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9" name="Línea 28"/>
                    <p:cNvSpPr/>
                    <p:nvPr/>
                  </p:nvSpPr>
                  <p:spPr>
                    <a:xfrm>
                      <a:off x="1403280" y="3284280"/>
                      <a:ext cx="0" cy="1220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00" name="Rectángulo 23"/>
                    <p:cNvSpPr/>
                    <p:nvPr/>
                  </p:nvSpPr>
                  <p:spPr>
                    <a:xfrm>
                      <a:off x="1217520" y="3354120"/>
                      <a:ext cx="3268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701" name="Grupo 168"/>
                    <p:cNvGrpSpPr/>
                    <p:nvPr/>
                  </p:nvGrpSpPr>
                  <p:grpSpPr>
                    <a:xfrm>
                      <a:off x="250920" y="3022560"/>
                      <a:ext cx="2506320" cy="3123000"/>
                      <a:chOff x="250920" y="3022560"/>
                      <a:chExt cx="2506320" cy="3123000"/>
                    </a:xfrm>
                  </p:grpSpPr>
                  <p:sp>
                    <p:nvSpPr>
                      <p:cNvPr id="702" name="Rectángulo 21"/>
                      <p:cNvSpPr/>
                      <p:nvPr/>
                    </p:nvSpPr>
                    <p:spPr>
                      <a:xfrm>
                        <a:off x="930240" y="3982680"/>
                        <a:ext cx="28116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3" name="Rectángulo 5"/>
                      <p:cNvSpPr/>
                      <p:nvPr/>
                    </p:nvSpPr>
                    <p:spPr>
                      <a:xfrm>
                        <a:off x="250920" y="3993480"/>
                        <a:ext cx="3016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4" name="Rectángulo 2"/>
                      <p:cNvSpPr/>
                      <p:nvPr/>
                    </p:nvSpPr>
                    <p:spPr>
                      <a:xfrm>
                        <a:off x="576360" y="397944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5" name="Línea 8"/>
                      <p:cNvSpPr/>
                      <p:nvPr/>
                    </p:nvSpPr>
                    <p:spPr>
                      <a:xfrm>
                        <a:off x="860400" y="413316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6" name="Línea 9"/>
                      <p:cNvSpPr/>
                      <p:nvPr/>
                    </p:nvSpPr>
                    <p:spPr>
                      <a:xfrm>
                        <a:off x="523800" y="417780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707" name="Grupo 167"/>
                      <p:cNvGrpSpPr/>
                      <p:nvPr/>
                    </p:nvGrpSpPr>
                    <p:grpSpPr>
                      <a:xfrm>
                        <a:off x="252360" y="3022560"/>
                        <a:ext cx="2504880" cy="3123000"/>
                        <a:chOff x="252360" y="3022560"/>
                        <a:chExt cx="2504880" cy="3123000"/>
                      </a:xfrm>
                    </p:grpSpPr>
                    <p:sp>
                      <p:nvSpPr>
                        <p:cNvPr id="708" name="Rectángulo 108"/>
                        <p:cNvSpPr/>
                        <p:nvPr/>
                      </p:nvSpPr>
                      <p:spPr>
                        <a:xfrm>
                          <a:off x="1203480" y="5805000"/>
                          <a:ext cx="1553760" cy="3405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9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Triglicéridos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9" name="Rectángulo 4"/>
                        <p:cNvSpPr/>
                        <p:nvPr/>
                      </p:nvSpPr>
                      <p:spPr>
                        <a:xfrm>
                          <a:off x="893880" y="3350520"/>
                          <a:ext cx="28260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0" name="Rectángulo 3"/>
                        <p:cNvSpPr/>
                        <p:nvPr/>
                      </p:nvSpPr>
                      <p:spPr>
                        <a:xfrm>
                          <a:off x="574560" y="3377520"/>
                          <a:ext cx="3268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1" name="Rectángulo 11"/>
                        <p:cNvSpPr/>
                        <p:nvPr/>
                      </p:nvSpPr>
                      <p:spPr>
                        <a:xfrm>
                          <a:off x="585720" y="302256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2" name="Rectángulo 19"/>
                        <p:cNvSpPr/>
                        <p:nvPr/>
                      </p:nvSpPr>
                      <p:spPr>
                        <a:xfrm>
                          <a:off x="252360" y="335556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3" name="Línea 20"/>
                        <p:cNvSpPr/>
                        <p:nvPr/>
                      </p:nvSpPr>
                      <p:spPr>
                        <a:xfrm>
                          <a:off x="466920" y="3492000"/>
                          <a:ext cx="147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4" name="Línea 6"/>
                        <p:cNvSpPr/>
                        <p:nvPr/>
                      </p:nvSpPr>
                      <p:spPr>
                        <a:xfrm>
                          <a:off x="723960" y="3282480"/>
                          <a:ext cx="0" cy="1407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5" name="Línea 10"/>
                        <p:cNvSpPr/>
                        <p:nvPr/>
                      </p:nvSpPr>
                      <p:spPr>
                        <a:xfrm>
                          <a:off x="819360" y="349524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6" name="Línea 26"/>
                        <p:cNvSpPr/>
                        <p:nvPr/>
                      </p:nvSpPr>
                      <p:spPr>
                        <a:xfrm>
                          <a:off x="1176480" y="350784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717" name="Línea 159"/>
                      <p:cNvSpPr/>
                      <p:nvPr/>
                    </p:nvSpPr>
                    <p:spPr>
                      <a:xfrm>
                        <a:off x="754200" y="3644280"/>
                        <a:ext cx="0" cy="35856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18" name="Línea 160"/>
                      <p:cNvSpPr/>
                      <p:nvPr/>
                    </p:nvSpPr>
                    <p:spPr>
                      <a:xfrm>
                        <a:off x="754200" y="4293720"/>
                        <a:ext cx="0" cy="35820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719" name="Línea 25"/>
                    <p:cNvSpPr/>
                    <p:nvPr/>
                  </p:nvSpPr>
                  <p:spPr>
                    <a:xfrm>
                      <a:off x="1460520" y="351612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720" name="Línea 44"/>
                <p:cNvSpPr/>
                <p:nvPr/>
              </p:nvSpPr>
              <p:spPr>
                <a:xfrm>
                  <a:off x="1162080" y="4797360"/>
                  <a:ext cx="12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1" name="Línea 175"/>
                <p:cNvSpPr/>
                <p:nvPr/>
              </p:nvSpPr>
              <p:spPr>
                <a:xfrm>
                  <a:off x="1366920" y="4578120"/>
                  <a:ext cx="0" cy="120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22" name="Cuadro de texto 179"/>
          <p:cNvSpPr/>
          <p:nvPr/>
        </p:nvSpPr>
        <p:spPr>
          <a:xfrm>
            <a:off x="4356000" y="2060640"/>
            <a:ext cx="1368360" cy="4597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ster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orma libre 181"/>
          <p:cNvSpPr/>
          <p:nvPr/>
        </p:nvSpPr>
        <p:spPr>
          <a:xfrm>
            <a:off x="4716360" y="2492280"/>
            <a:ext cx="486000" cy="2041560"/>
          </a:xfrm>
          <a:custGeom>
            <a:avLst/>
            <a:gdLst/>
            <a:ahLst/>
            <a:rect l="l" t="t" r="r" b="b"/>
            <a:pathLst>
              <a:path w="306" h="1286">
                <a:moveTo>
                  <a:pt x="38" y="0"/>
                </a:moveTo>
                <a:cubicBezTo>
                  <a:pt x="19" y="329"/>
                  <a:pt x="0" y="658"/>
                  <a:pt x="38" y="862"/>
                </a:cubicBezTo>
                <a:cubicBezTo>
                  <a:pt x="76" y="1066"/>
                  <a:pt x="224" y="1164"/>
                  <a:pt x="265" y="1225"/>
                </a:cubicBezTo>
                <a:cubicBezTo>
                  <a:pt x="306" y="1286"/>
                  <a:pt x="281" y="1229"/>
                  <a:pt x="285" y="1230"/>
                </a:cubicBezTo>
              </a:path>
            </a:pathLst>
          </a:custGeom>
          <a:noFill/>
          <a:ln w="316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Cuadro de texto 182"/>
          <p:cNvSpPr/>
          <p:nvPr/>
        </p:nvSpPr>
        <p:spPr>
          <a:xfrm>
            <a:off x="5219640" y="3789360"/>
            <a:ext cx="10810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  <a:ea typeface="Arial"/>
              </a:rPr>
              <a:t>C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  <a:ea typeface="Arial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Cuadro de texto 183"/>
          <p:cNvSpPr/>
          <p:nvPr/>
        </p:nvSpPr>
        <p:spPr>
          <a:xfrm>
            <a:off x="5148360" y="5084640"/>
            <a:ext cx="10810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  <a:ea typeface="Arial"/>
              </a:rPr>
              <a:t>C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  <a:ea typeface="Arial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8748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Rounded MT Bold"/>
              </a:rPr>
              <a:t>Digestión de Fosfolíp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7" name="Grupo 11"/>
          <p:cNvGrpSpPr/>
          <p:nvPr/>
        </p:nvGrpSpPr>
        <p:grpSpPr>
          <a:xfrm>
            <a:off x="1403280" y="2852640"/>
            <a:ext cx="5400720" cy="2388960"/>
            <a:chOff x="1403280" y="2852640"/>
            <a:chExt cx="5400720" cy="2388960"/>
          </a:xfrm>
        </p:grpSpPr>
        <p:pic>
          <p:nvPicPr>
            <p:cNvPr id="728" name="Imagen 5" descr="fi19p5"/>
            <p:cNvPicPr/>
            <p:nvPr/>
          </p:nvPicPr>
          <p:blipFill>
            <a:blip r:embed="rId1"/>
            <a:srcRect l="4770" t="76815" r="17641" b="0"/>
            <a:stretch/>
          </p:blipFill>
          <p:spPr>
            <a:xfrm>
              <a:off x="1403280" y="2852640"/>
              <a:ext cx="540072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Cuadro de texto 7"/>
            <p:cNvSpPr/>
            <p:nvPr/>
          </p:nvSpPr>
          <p:spPr>
            <a:xfrm>
              <a:off x="2339640" y="4868640"/>
              <a:ext cx="331344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sfatidilcolina (Lecitina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0" name="Cuadro de texto 15"/>
          <p:cNvSpPr/>
          <p:nvPr/>
        </p:nvSpPr>
        <p:spPr>
          <a:xfrm>
            <a:off x="684360" y="5661000"/>
            <a:ext cx="165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stera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Cuadro de texto 14"/>
          <p:cNvSpPr/>
          <p:nvPr/>
        </p:nvSpPr>
        <p:spPr>
          <a:xfrm>
            <a:off x="4067280" y="5734080"/>
            <a:ext cx="1726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osfata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2" name="Grupo 18"/>
          <p:cNvGrpSpPr/>
          <p:nvPr/>
        </p:nvGrpSpPr>
        <p:grpSpPr>
          <a:xfrm>
            <a:off x="2195640" y="1881360"/>
            <a:ext cx="2232000" cy="2087280"/>
            <a:chOff x="2195640" y="1881360"/>
            <a:chExt cx="2232000" cy="2087280"/>
          </a:xfrm>
        </p:grpSpPr>
        <p:sp>
          <p:nvSpPr>
            <p:cNvPr id="733" name="Cuadro de texto 13"/>
            <p:cNvSpPr/>
            <p:nvPr/>
          </p:nvSpPr>
          <p:spPr>
            <a:xfrm>
              <a:off x="2195640" y="1881360"/>
              <a:ext cx="22320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osfolipasa A</a:t>
              </a:r>
              <a:r>
                <a:rPr b="1" i="1" lang="es-ES_tradnl" sz="24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orma libre 16"/>
            <p:cNvSpPr/>
            <p:nvPr/>
          </p:nvSpPr>
          <p:spPr>
            <a:xfrm>
              <a:off x="2482920" y="2384280"/>
              <a:ext cx="287280" cy="1584360"/>
            </a:xfrm>
            <a:custGeom>
              <a:avLst/>
              <a:gdLst/>
              <a:ahLst/>
              <a:rect l="l" t="t" r="r" b="b"/>
              <a:pathLst>
                <a:path w="306" h="1286">
                  <a:moveTo>
                    <a:pt x="38" y="0"/>
                  </a:moveTo>
                  <a:cubicBezTo>
                    <a:pt x="19" y="329"/>
                    <a:pt x="0" y="658"/>
                    <a:pt x="38" y="862"/>
                  </a:cubicBezTo>
                  <a:cubicBezTo>
                    <a:pt x="76" y="1066"/>
                    <a:pt x="224" y="1164"/>
                    <a:pt x="265" y="1225"/>
                  </a:cubicBezTo>
                  <a:cubicBezTo>
                    <a:pt x="306" y="1286"/>
                    <a:pt x="281" y="1229"/>
                    <a:pt x="285" y="1230"/>
                  </a:cubicBezTo>
                </a:path>
              </a:pathLst>
            </a:custGeom>
            <a:noFill/>
            <a:ln w="31680">
              <a:solidFill>
                <a:srgbClr val="c050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Cuadro de texto 5"/>
          <p:cNvSpPr/>
          <p:nvPr/>
        </p:nvSpPr>
        <p:spPr>
          <a:xfrm>
            <a:off x="108000" y="115920"/>
            <a:ext cx="8856720" cy="1537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bsorción de lípid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cción de sales bili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Cuadro de texto 6"/>
          <p:cNvSpPr/>
          <p:nvPr/>
        </p:nvSpPr>
        <p:spPr>
          <a:xfrm>
            <a:off x="755640" y="2492280"/>
            <a:ext cx="3456000" cy="86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C.GRASOS LIBR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NOGLICÉR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7" name="Grupo 13"/>
          <p:cNvGrpSpPr/>
          <p:nvPr/>
        </p:nvGrpSpPr>
        <p:grpSpPr>
          <a:xfrm>
            <a:off x="5362560" y="2205000"/>
            <a:ext cx="3529080" cy="1655640"/>
            <a:chOff x="5362560" y="2205000"/>
            <a:chExt cx="3529080" cy="1655640"/>
          </a:xfrm>
        </p:grpSpPr>
        <p:sp>
          <p:nvSpPr>
            <p:cNvPr id="738" name="Elipse 11"/>
            <p:cNvSpPr/>
            <p:nvPr/>
          </p:nvSpPr>
          <p:spPr>
            <a:xfrm>
              <a:off x="5362560" y="2205000"/>
              <a:ext cx="3529080" cy="1655640"/>
            </a:xfrm>
            <a:prstGeom prst="ellipse">
              <a:avLst/>
            </a:prstGeom>
            <a:solidFill>
              <a:srgbClr val="7793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Cuadro de texto 7"/>
            <p:cNvSpPr/>
            <p:nvPr/>
          </p:nvSpPr>
          <p:spPr>
            <a:xfrm>
              <a:off x="5796000" y="2432160"/>
              <a:ext cx="2808360" cy="119124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Rounded MT Bold"/>
                  <a:ea typeface="Arial"/>
                </a:rPr>
                <a:t>Atraviesan la membrana del enterocito por difusión simpl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0" name="Cuadro de texto 8"/>
          <p:cNvSpPr/>
          <p:nvPr/>
        </p:nvSpPr>
        <p:spPr>
          <a:xfrm>
            <a:off x="122400" y="1601640"/>
            <a:ext cx="8866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N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YEYUNO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e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ILEON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POR DIFUSION PAS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Cuadro de texto 9"/>
          <p:cNvSpPr/>
          <p:nvPr/>
        </p:nvSpPr>
        <p:spPr>
          <a:xfrm>
            <a:off x="326880" y="5805360"/>
            <a:ext cx="86616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. Grasos de Cadena larga: Sistema de transporte </a:t>
            </a:r>
            <a:r>
              <a:rPr b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LIPOPROTEÍ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Cuadro de texto 10"/>
          <p:cNvSpPr/>
          <p:nvPr/>
        </p:nvSpPr>
        <p:spPr>
          <a:xfrm>
            <a:off x="230040" y="3500280"/>
            <a:ext cx="5040360" cy="2128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MICEL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noglicérid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G de cadena lar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lester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itaminas liposolu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upo 63"/>
          <p:cNvGrpSpPr/>
          <p:nvPr/>
        </p:nvGrpSpPr>
        <p:grpSpPr>
          <a:xfrm>
            <a:off x="1943280" y="2400480"/>
            <a:ext cx="4119840" cy="3071880"/>
            <a:chOff x="1943280" y="2400480"/>
            <a:chExt cx="4119840" cy="3071880"/>
          </a:xfrm>
        </p:grpSpPr>
        <p:grpSp>
          <p:nvGrpSpPr>
            <p:cNvPr id="744" name="Grupo 20"/>
            <p:cNvGrpSpPr/>
            <p:nvPr/>
          </p:nvGrpSpPr>
          <p:grpSpPr>
            <a:xfrm>
              <a:off x="1943280" y="2421000"/>
              <a:ext cx="3608280" cy="2939760"/>
              <a:chOff x="1943280" y="2421000"/>
              <a:chExt cx="3608280" cy="2939760"/>
            </a:xfrm>
          </p:grpSpPr>
          <p:sp>
            <p:nvSpPr>
              <p:cNvPr id="745" name="Rectángulo 17"/>
              <p:cNvSpPr/>
              <p:nvPr/>
            </p:nvSpPr>
            <p:spPr>
              <a:xfrm>
                <a:off x="1943280" y="2421000"/>
                <a:ext cx="3456000" cy="293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GPD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Rectángulo 19"/>
              <p:cNvSpPr/>
              <p:nvPr/>
            </p:nvSpPr>
            <p:spPr>
              <a:xfrm>
                <a:off x="5245560" y="2421000"/>
                <a:ext cx="306000" cy="293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7" name="Forma libre 18"/>
            <p:cNvSpPr/>
            <p:nvPr/>
          </p:nvSpPr>
          <p:spPr>
            <a:xfrm rot="196800">
              <a:off x="5169240" y="2421000"/>
              <a:ext cx="807840" cy="3030480"/>
            </a:xfrm>
            <a:custGeom>
              <a:avLst/>
              <a:gdLst/>
              <a:ahLst/>
              <a:rect l="l" t="t" r="r" b="b"/>
              <a:pathLst>
                <a:path w="477" h="1637">
                  <a:moveTo>
                    <a:pt x="0" y="4"/>
                  </a:moveTo>
                  <a:cubicBezTo>
                    <a:pt x="82" y="7"/>
                    <a:pt x="166" y="0"/>
                    <a:pt x="247" y="13"/>
                  </a:cubicBezTo>
                  <a:cubicBezTo>
                    <a:pt x="266" y="16"/>
                    <a:pt x="201" y="40"/>
                    <a:pt x="210" y="59"/>
                  </a:cubicBezTo>
                  <a:cubicBezTo>
                    <a:pt x="168" y="84"/>
                    <a:pt x="113" y="73"/>
                    <a:pt x="64" y="77"/>
                  </a:cubicBezTo>
                  <a:cubicBezTo>
                    <a:pt x="19" y="122"/>
                    <a:pt x="32" y="136"/>
                    <a:pt x="73" y="178"/>
                  </a:cubicBezTo>
                  <a:cubicBezTo>
                    <a:pt x="154" y="160"/>
                    <a:pt x="154" y="160"/>
                    <a:pt x="256" y="168"/>
                  </a:cubicBezTo>
                  <a:cubicBezTo>
                    <a:pt x="253" y="177"/>
                    <a:pt x="255" y="190"/>
                    <a:pt x="247" y="196"/>
                  </a:cubicBezTo>
                  <a:cubicBezTo>
                    <a:pt x="212" y="221"/>
                    <a:pt x="106" y="221"/>
                    <a:pt x="82" y="223"/>
                  </a:cubicBezTo>
                  <a:cubicBezTo>
                    <a:pt x="100" y="305"/>
                    <a:pt x="75" y="260"/>
                    <a:pt x="192" y="278"/>
                  </a:cubicBezTo>
                  <a:cubicBezTo>
                    <a:pt x="217" y="282"/>
                    <a:pt x="265" y="296"/>
                    <a:pt x="265" y="296"/>
                  </a:cubicBezTo>
                  <a:cubicBezTo>
                    <a:pt x="202" y="392"/>
                    <a:pt x="251" y="350"/>
                    <a:pt x="82" y="360"/>
                  </a:cubicBezTo>
                  <a:cubicBezTo>
                    <a:pt x="117" y="457"/>
                    <a:pt x="176" y="393"/>
                    <a:pt x="265" y="415"/>
                  </a:cubicBezTo>
                  <a:cubicBezTo>
                    <a:pt x="274" y="421"/>
                    <a:pt x="309" y="459"/>
                    <a:pt x="311" y="470"/>
                  </a:cubicBezTo>
                  <a:cubicBezTo>
                    <a:pt x="313" y="481"/>
                    <a:pt x="267" y="450"/>
                    <a:pt x="256" y="452"/>
                  </a:cubicBezTo>
                  <a:cubicBezTo>
                    <a:pt x="190" y="463"/>
                    <a:pt x="159" y="504"/>
                    <a:pt x="92" y="507"/>
                  </a:cubicBezTo>
                  <a:cubicBezTo>
                    <a:pt x="119" y="588"/>
                    <a:pt x="237" y="537"/>
                    <a:pt x="311" y="552"/>
                  </a:cubicBezTo>
                  <a:cubicBezTo>
                    <a:pt x="290" y="636"/>
                    <a:pt x="210" y="602"/>
                    <a:pt x="119" y="607"/>
                  </a:cubicBezTo>
                  <a:cubicBezTo>
                    <a:pt x="105" y="634"/>
                    <a:pt x="215" y="653"/>
                    <a:pt x="247" y="671"/>
                  </a:cubicBezTo>
                  <a:cubicBezTo>
                    <a:pt x="279" y="689"/>
                    <a:pt x="314" y="705"/>
                    <a:pt x="311" y="717"/>
                  </a:cubicBezTo>
                  <a:cubicBezTo>
                    <a:pt x="308" y="733"/>
                    <a:pt x="261" y="735"/>
                    <a:pt x="229" y="744"/>
                  </a:cubicBezTo>
                  <a:cubicBezTo>
                    <a:pt x="197" y="753"/>
                    <a:pt x="115" y="763"/>
                    <a:pt x="119" y="772"/>
                  </a:cubicBezTo>
                  <a:cubicBezTo>
                    <a:pt x="91" y="856"/>
                    <a:pt x="203" y="794"/>
                    <a:pt x="256" y="799"/>
                  </a:cubicBezTo>
                  <a:cubicBezTo>
                    <a:pt x="302" y="814"/>
                    <a:pt x="300" y="830"/>
                    <a:pt x="284" y="872"/>
                  </a:cubicBezTo>
                  <a:cubicBezTo>
                    <a:pt x="241" y="869"/>
                    <a:pt x="189" y="918"/>
                    <a:pt x="146" y="918"/>
                  </a:cubicBezTo>
                  <a:cubicBezTo>
                    <a:pt x="137" y="918"/>
                    <a:pt x="123" y="918"/>
                    <a:pt x="119" y="927"/>
                  </a:cubicBezTo>
                  <a:cubicBezTo>
                    <a:pt x="106" y="954"/>
                    <a:pt x="144" y="962"/>
                    <a:pt x="156" y="964"/>
                  </a:cubicBezTo>
                  <a:cubicBezTo>
                    <a:pt x="186" y="969"/>
                    <a:pt x="217" y="969"/>
                    <a:pt x="247" y="973"/>
                  </a:cubicBezTo>
                  <a:cubicBezTo>
                    <a:pt x="284" y="978"/>
                    <a:pt x="311" y="964"/>
                    <a:pt x="311" y="964"/>
                  </a:cubicBezTo>
                  <a:cubicBezTo>
                    <a:pt x="248" y="1058"/>
                    <a:pt x="314" y="1062"/>
                    <a:pt x="174" y="1074"/>
                  </a:cubicBezTo>
                  <a:cubicBezTo>
                    <a:pt x="211" y="1130"/>
                    <a:pt x="257" y="1113"/>
                    <a:pt x="329" y="1119"/>
                  </a:cubicBezTo>
                  <a:cubicBezTo>
                    <a:pt x="338" y="1122"/>
                    <a:pt x="353" y="1119"/>
                    <a:pt x="357" y="1128"/>
                  </a:cubicBezTo>
                  <a:cubicBezTo>
                    <a:pt x="366" y="1145"/>
                    <a:pt x="337" y="1166"/>
                    <a:pt x="329" y="1174"/>
                  </a:cubicBezTo>
                  <a:cubicBezTo>
                    <a:pt x="254" y="1167"/>
                    <a:pt x="209" y="1155"/>
                    <a:pt x="137" y="1165"/>
                  </a:cubicBezTo>
                  <a:cubicBezTo>
                    <a:pt x="166" y="1313"/>
                    <a:pt x="304" y="1169"/>
                    <a:pt x="412" y="1238"/>
                  </a:cubicBezTo>
                  <a:cubicBezTo>
                    <a:pt x="365" y="1283"/>
                    <a:pt x="339" y="1263"/>
                    <a:pt x="265" y="1256"/>
                  </a:cubicBezTo>
                  <a:cubicBezTo>
                    <a:pt x="237" y="1250"/>
                    <a:pt x="182" y="1234"/>
                    <a:pt x="156" y="1256"/>
                  </a:cubicBezTo>
                  <a:cubicBezTo>
                    <a:pt x="133" y="1275"/>
                    <a:pt x="184" y="1310"/>
                    <a:pt x="192" y="1311"/>
                  </a:cubicBezTo>
                  <a:cubicBezTo>
                    <a:pt x="250" y="1319"/>
                    <a:pt x="308" y="1317"/>
                    <a:pt x="366" y="1320"/>
                  </a:cubicBezTo>
                  <a:cubicBezTo>
                    <a:pt x="356" y="1363"/>
                    <a:pt x="352" y="1370"/>
                    <a:pt x="311" y="1384"/>
                  </a:cubicBezTo>
                  <a:cubicBezTo>
                    <a:pt x="227" y="1363"/>
                    <a:pt x="259" y="1380"/>
                    <a:pt x="210" y="1348"/>
                  </a:cubicBezTo>
                  <a:cubicBezTo>
                    <a:pt x="169" y="1354"/>
                    <a:pt x="119" y="1339"/>
                    <a:pt x="156" y="1394"/>
                  </a:cubicBezTo>
                  <a:cubicBezTo>
                    <a:pt x="202" y="1462"/>
                    <a:pt x="320" y="1418"/>
                    <a:pt x="402" y="1421"/>
                  </a:cubicBezTo>
                  <a:cubicBezTo>
                    <a:pt x="391" y="1466"/>
                    <a:pt x="381" y="1471"/>
                    <a:pt x="338" y="1485"/>
                  </a:cubicBezTo>
                  <a:cubicBezTo>
                    <a:pt x="285" y="1478"/>
                    <a:pt x="243" y="1464"/>
                    <a:pt x="192" y="1476"/>
                  </a:cubicBezTo>
                  <a:cubicBezTo>
                    <a:pt x="217" y="1576"/>
                    <a:pt x="343" y="1536"/>
                    <a:pt x="430" y="1540"/>
                  </a:cubicBezTo>
                  <a:cubicBezTo>
                    <a:pt x="421" y="1549"/>
                    <a:pt x="477" y="1573"/>
                    <a:pt x="439" y="1576"/>
                  </a:cubicBezTo>
                  <a:cubicBezTo>
                    <a:pt x="357" y="1582"/>
                    <a:pt x="274" y="1583"/>
                    <a:pt x="192" y="1586"/>
                  </a:cubicBezTo>
                  <a:cubicBezTo>
                    <a:pt x="204" y="1605"/>
                    <a:pt x="223" y="1637"/>
                    <a:pt x="247" y="1613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Rounded MT Bold"/>
              </a:rPr>
              <a:t>Absorción de los productos de la digestión de  Triglicér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Grupo 28"/>
          <p:cNvGrpSpPr/>
          <p:nvPr/>
        </p:nvGrpSpPr>
        <p:grpSpPr>
          <a:xfrm>
            <a:off x="2050920" y="5500800"/>
            <a:ext cx="3681720" cy="449280"/>
            <a:chOff x="2050920" y="5500800"/>
            <a:chExt cx="3681720" cy="449280"/>
          </a:xfrm>
        </p:grpSpPr>
        <p:grpSp>
          <p:nvGrpSpPr>
            <p:cNvPr id="750" name="Grupo 26"/>
            <p:cNvGrpSpPr/>
            <p:nvPr/>
          </p:nvGrpSpPr>
          <p:grpSpPr>
            <a:xfrm>
              <a:off x="2050920" y="5516640"/>
              <a:ext cx="3384720" cy="433440"/>
              <a:chOff x="2050920" y="5516640"/>
              <a:chExt cx="3384720" cy="433440"/>
            </a:xfrm>
          </p:grpSpPr>
          <p:sp>
            <p:nvSpPr>
              <p:cNvPr id="751" name="Línea 24"/>
              <p:cNvSpPr/>
              <p:nvPr/>
            </p:nvSpPr>
            <p:spPr>
              <a:xfrm>
                <a:off x="2050920" y="551664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Línea 25"/>
              <p:cNvSpPr/>
              <p:nvPr/>
            </p:nvSpPr>
            <p:spPr>
              <a:xfrm>
                <a:off x="2050920" y="5516640"/>
                <a:ext cx="33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3" name="Forma libre 27"/>
            <p:cNvSpPr/>
            <p:nvPr/>
          </p:nvSpPr>
          <p:spPr>
            <a:xfrm>
              <a:off x="5311800" y="5500800"/>
              <a:ext cx="420840" cy="377640"/>
            </a:xfrm>
            <a:custGeom>
              <a:avLst/>
              <a:gdLst/>
              <a:ahLst/>
              <a:rect l="l" t="t" r="r" b="b"/>
              <a:pathLst>
                <a:path w="265" h="238">
                  <a:moveTo>
                    <a:pt x="28" y="0"/>
                  </a:moveTo>
                  <a:cubicBezTo>
                    <a:pt x="31" y="0"/>
                    <a:pt x="166" y="0"/>
                    <a:pt x="192" y="9"/>
                  </a:cubicBezTo>
                  <a:cubicBezTo>
                    <a:pt x="198" y="15"/>
                    <a:pt x="214" y="19"/>
                    <a:pt x="211" y="28"/>
                  </a:cubicBezTo>
                  <a:cubicBezTo>
                    <a:pt x="208" y="37"/>
                    <a:pt x="193" y="36"/>
                    <a:pt x="183" y="37"/>
                  </a:cubicBezTo>
                  <a:cubicBezTo>
                    <a:pt x="134" y="42"/>
                    <a:pt x="86" y="43"/>
                    <a:pt x="37" y="46"/>
                  </a:cubicBezTo>
                  <a:cubicBezTo>
                    <a:pt x="65" y="129"/>
                    <a:pt x="103" y="94"/>
                    <a:pt x="211" y="101"/>
                  </a:cubicBezTo>
                  <a:cubicBezTo>
                    <a:pt x="148" y="161"/>
                    <a:pt x="248" y="73"/>
                    <a:pt x="46" y="128"/>
                  </a:cubicBezTo>
                  <a:cubicBezTo>
                    <a:pt x="37" y="130"/>
                    <a:pt x="54" y="168"/>
                    <a:pt x="83" y="174"/>
                  </a:cubicBezTo>
                  <a:cubicBezTo>
                    <a:pt x="119" y="181"/>
                    <a:pt x="156" y="180"/>
                    <a:pt x="192" y="183"/>
                  </a:cubicBezTo>
                  <a:cubicBezTo>
                    <a:pt x="210" y="189"/>
                    <a:pt x="265" y="195"/>
                    <a:pt x="247" y="201"/>
                  </a:cubicBezTo>
                  <a:cubicBezTo>
                    <a:pt x="185" y="222"/>
                    <a:pt x="229" y="209"/>
                    <a:pt x="110" y="220"/>
                  </a:cubicBezTo>
                  <a:cubicBezTo>
                    <a:pt x="75" y="232"/>
                    <a:pt x="0" y="238"/>
                    <a:pt x="0" y="238"/>
                  </a:cubicBezTo>
                  <a:lnTo>
                    <a:pt x="33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4" name="Grupo 62"/>
          <p:cNvGrpSpPr/>
          <p:nvPr/>
        </p:nvGrpSpPr>
        <p:grpSpPr>
          <a:xfrm>
            <a:off x="1943280" y="1844640"/>
            <a:ext cx="3681000" cy="433440"/>
            <a:chOff x="1943280" y="1844640"/>
            <a:chExt cx="3681000" cy="433440"/>
          </a:xfrm>
        </p:grpSpPr>
        <p:sp>
          <p:nvSpPr>
            <p:cNvPr id="755" name="Línea 31"/>
            <p:cNvSpPr/>
            <p:nvPr/>
          </p:nvSpPr>
          <p:spPr>
            <a:xfrm>
              <a:off x="1943280" y="184464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Línea 32"/>
            <p:cNvSpPr/>
            <p:nvPr/>
          </p:nvSpPr>
          <p:spPr>
            <a:xfrm>
              <a:off x="1943280" y="2260440"/>
              <a:ext cx="33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orma libre 33"/>
            <p:cNvSpPr/>
            <p:nvPr/>
          </p:nvSpPr>
          <p:spPr>
            <a:xfrm>
              <a:off x="5203800" y="1882800"/>
              <a:ext cx="420480" cy="377640"/>
            </a:xfrm>
            <a:custGeom>
              <a:avLst/>
              <a:gdLst/>
              <a:ahLst/>
              <a:rect l="l" t="t" r="r" b="b"/>
              <a:pathLst>
                <a:path w="265" h="238">
                  <a:moveTo>
                    <a:pt x="28" y="0"/>
                  </a:moveTo>
                  <a:cubicBezTo>
                    <a:pt x="31" y="0"/>
                    <a:pt x="166" y="0"/>
                    <a:pt x="192" y="9"/>
                  </a:cubicBezTo>
                  <a:cubicBezTo>
                    <a:pt x="198" y="15"/>
                    <a:pt x="214" y="19"/>
                    <a:pt x="211" y="28"/>
                  </a:cubicBezTo>
                  <a:cubicBezTo>
                    <a:pt x="208" y="37"/>
                    <a:pt x="193" y="36"/>
                    <a:pt x="183" y="37"/>
                  </a:cubicBezTo>
                  <a:cubicBezTo>
                    <a:pt x="134" y="42"/>
                    <a:pt x="86" y="43"/>
                    <a:pt x="37" y="46"/>
                  </a:cubicBezTo>
                  <a:cubicBezTo>
                    <a:pt x="65" y="129"/>
                    <a:pt x="103" y="94"/>
                    <a:pt x="211" y="101"/>
                  </a:cubicBezTo>
                  <a:cubicBezTo>
                    <a:pt x="148" y="161"/>
                    <a:pt x="248" y="73"/>
                    <a:pt x="46" y="128"/>
                  </a:cubicBezTo>
                  <a:cubicBezTo>
                    <a:pt x="37" y="130"/>
                    <a:pt x="54" y="168"/>
                    <a:pt x="83" y="174"/>
                  </a:cubicBezTo>
                  <a:cubicBezTo>
                    <a:pt x="119" y="181"/>
                    <a:pt x="156" y="180"/>
                    <a:pt x="192" y="183"/>
                  </a:cubicBezTo>
                  <a:cubicBezTo>
                    <a:pt x="210" y="189"/>
                    <a:pt x="265" y="195"/>
                    <a:pt x="247" y="201"/>
                  </a:cubicBezTo>
                  <a:cubicBezTo>
                    <a:pt x="185" y="222"/>
                    <a:pt x="229" y="209"/>
                    <a:pt x="110" y="220"/>
                  </a:cubicBezTo>
                  <a:cubicBezTo>
                    <a:pt x="75" y="232"/>
                    <a:pt x="0" y="238"/>
                    <a:pt x="0" y="238"/>
                  </a:cubicBezTo>
                  <a:lnTo>
                    <a:pt x="33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8" name="Cuadro de texto 35"/>
          <p:cNvSpPr/>
          <p:nvPr/>
        </p:nvSpPr>
        <p:spPr>
          <a:xfrm>
            <a:off x="0" y="227664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SPACIO INTERSTI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Cuadro de texto 36"/>
          <p:cNvSpPr/>
          <p:nvPr/>
        </p:nvSpPr>
        <p:spPr>
          <a:xfrm>
            <a:off x="6119640" y="23493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U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0" name="Grupo 39"/>
          <p:cNvGrpSpPr/>
          <p:nvPr/>
        </p:nvGrpSpPr>
        <p:grpSpPr>
          <a:xfrm>
            <a:off x="2411280" y="2567160"/>
            <a:ext cx="2951280" cy="398880"/>
            <a:chOff x="2411280" y="2567160"/>
            <a:chExt cx="2951280" cy="398880"/>
          </a:xfrm>
        </p:grpSpPr>
        <p:sp>
          <p:nvSpPr>
            <p:cNvPr id="761" name="Cuadro de texto 37"/>
            <p:cNvSpPr/>
            <p:nvPr/>
          </p:nvSpPr>
          <p:spPr>
            <a:xfrm>
              <a:off x="2411280" y="2567160"/>
              <a:ext cx="295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HAP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licólisi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Línea 38"/>
            <p:cNvSpPr/>
            <p:nvPr/>
          </p:nvSpPr>
          <p:spPr>
            <a:xfrm flipH="1">
              <a:off x="3346560" y="2854440"/>
              <a:ext cx="5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3" name="Elipse 42"/>
          <p:cNvSpPr/>
          <p:nvPr/>
        </p:nvSpPr>
        <p:spPr>
          <a:xfrm>
            <a:off x="1042920" y="3500280"/>
            <a:ext cx="792360" cy="720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4" name="Grupo 64"/>
          <p:cNvGrpSpPr/>
          <p:nvPr/>
        </p:nvGrpSpPr>
        <p:grpSpPr>
          <a:xfrm>
            <a:off x="252360" y="4941720"/>
            <a:ext cx="8244000" cy="1808280"/>
            <a:chOff x="252360" y="4941720"/>
            <a:chExt cx="8244000" cy="1808280"/>
          </a:xfrm>
        </p:grpSpPr>
        <p:sp>
          <p:nvSpPr>
            <p:cNvPr id="765" name="Cuadro de texto 40"/>
            <p:cNvSpPr/>
            <p:nvPr/>
          </p:nvSpPr>
          <p:spPr>
            <a:xfrm>
              <a:off x="252360" y="4941720"/>
              <a:ext cx="8244000" cy="12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.Grasos                                                               Ac. Gra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&lt; 10 C                                                                                              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&lt; 10 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Línea 41"/>
            <p:cNvSpPr/>
            <p:nvPr/>
          </p:nvSpPr>
          <p:spPr>
            <a:xfrm flipH="1">
              <a:off x="1727280" y="5230800"/>
              <a:ext cx="44654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Línea 43"/>
            <p:cNvSpPr/>
            <p:nvPr/>
          </p:nvSpPr>
          <p:spPr>
            <a:xfrm>
              <a:off x="1187280" y="5445000"/>
              <a:ext cx="0" cy="720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Cuadro de texto 44"/>
            <p:cNvSpPr/>
            <p:nvPr/>
          </p:nvSpPr>
          <p:spPr>
            <a:xfrm>
              <a:off x="539640" y="6381720"/>
              <a:ext cx="14400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ena por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9" name="Cuadro de texto 45"/>
          <p:cNvSpPr/>
          <p:nvPr/>
        </p:nvSpPr>
        <p:spPr>
          <a:xfrm>
            <a:off x="179280" y="3213000"/>
            <a:ext cx="7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Línea 46"/>
          <p:cNvSpPr/>
          <p:nvPr/>
        </p:nvSpPr>
        <p:spPr>
          <a:xfrm flipH="1" flipV="1">
            <a:off x="610920" y="364464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Línea 49"/>
          <p:cNvSpPr/>
          <p:nvPr/>
        </p:nvSpPr>
        <p:spPr>
          <a:xfrm flipH="1">
            <a:off x="2626920" y="3176640"/>
            <a:ext cx="1800" cy="682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Autoforma 54"/>
          <p:cNvSpPr/>
          <p:nvPr/>
        </p:nvSpPr>
        <p:spPr>
          <a:xfrm rot="1471200">
            <a:off x="2843280" y="3716280"/>
            <a:ext cx="792000" cy="360360"/>
          </a:xfrm>
          <a:custGeom>
            <a:avLst/>
            <a:gdLst>
              <a:gd name="textAreaLeft" fmla="*/ 79200 w 792000"/>
              <a:gd name="textAreaRight" fmla="*/ 712800 w 792000"/>
              <a:gd name="textAreaTop" fmla="*/ 205920 h 360360"/>
              <a:gd name="textAreaBottom" fmla="*/ 308880 h 360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Elipse 55"/>
          <p:cNvSpPr/>
          <p:nvPr/>
        </p:nvSpPr>
        <p:spPr>
          <a:xfrm>
            <a:off x="2124000" y="4365720"/>
            <a:ext cx="505080" cy="504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Línea 59"/>
          <p:cNvSpPr/>
          <p:nvPr/>
        </p:nvSpPr>
        <p:spPr>
          <a:xfrm flipH="1" flipV="1">
            <a:off x="1834920" y="4149720"/>
            <a:ext cx="36036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5" name="Grupo 66"/>
          <p:cNvGrpSpPr/>
          <p:nvPr/>
        </p:nvGrpSpPr>
        <p:grpSpPr>
          <a:xfrm>
            <a:off x="2411280" y="2997360"/>
            <a:ext cx="5185080" cy="1655640"/>
            <a:chOff x="2411280" y="2997360"/>
            <a:chExt cx="5185080" cy="1655640"/>
          </a:xfrm>
        </p:grpSpPr>
        <p:sp>
          <p:nvSpPr>
            <p:cNvPr id="776" name="Elipse 53"/>
            <p:cNvSpPr/>
            <p:nvPr/>
          </p:nvSpPr>
          <p:spPr>
            <a:xfrm>
              <a:off x="4427640" y="2997360"/>
              <a:ext cx="431640" cy="360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77" name="Grupo 65"/>
            <p:cNvGrpSpPr/>
            <p:nvPr/>
          </p:nvGrpSpPr>
          <p:grpSpPr>
            <a:xfrm>
              <a:off x="2411280" y="3213000"/>
              <a:ext cx="5185080" cy="1440000"/>
              <a:chOff x="2411280" y="3213000"/>
              <a:chExt cx="5185080" cy="1440000"/>
            </a:xfrm>
          </p:grpSpPr>
          <p:sp>
            <p:nvSpPr>
              <p:cNvPr id="778" name="Elipse 60"/>
              <p:cNvSpPr/>
              <p:nvPr/>
            </p:nvSpPr>
            <p:spPr>
              <a:xfrm>
                <a:off x="6156360" y="3213000"/>
                <a:ext cx="1150920" cy="144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Cuadro de texto 48"/>
              <p:cNvSpPr/>
              <p:nvPr/>
            </p:nvSpPr>
            <p:spPr>
              <a:xfrm>
                <a:off x="2556000" y="3429000"/>
                <a:ext cx="504036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cil-CoA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G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G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                                                    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&gt;10C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Cuadro de texto 47"/>
              <p:cNvSpPr/>
              <p:nvPr/>
            </p:nvSpPr>
            <p:spPr>
              <a:xfrm>
                <a:off x="2411280" y="4005360"/>
                <a:ext cx="50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TAG</a:t>
                </a:r>
                <a:r>
                  <a:rPr b="1" lang="es-ES_tradnl" sz="2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2 MAG                        2 MAG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Línea 50"/>
              <p:cNvSpPr/>
              <p:nvPr/>
            </p:nvSpPr>
            <p:spPr>
              <a:xfrm flipH="1">
                <a:off x="3274560" y="4219560"/>
                <a:ext cx="6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Línea 51"/>
              <p:cNvSpPr/>
              <p:nvPr/>
            </p:nvSpPr>
            <p:spPr>
              <a:xfrm flipH="1">
                <a:off x="4373640" y="3568680"/>
                <a:ext cx="35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Línea 61"/>
              <p:cNvSpPr/>
              <p:nvPr/>
            </p:nvSpPr>
            <p:spPr>
              <a:xfrm flipH="1">
                <a:off x="5148000" y="4221000"/>
                <a:ext cx="93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Línea 52"/>
              <p:cNvSpPr/>
              <p:nvPr/>
            </p:nvSpPr>
            <p:spPr>
              <a:xfrm flipH="1">
                <a:off x="5292720" y="3429000"/>
                <a:ext cx="93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85" name="1 CuadroTexto"/>
          <p:cNvSpPr/>
          <p:nvPr/>
        </p:nvSpPr>
        <p:spPr>
          <a:xfrm>
            <a:off x="5543280" y="6354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TK: tioquinasas o Acil CoA sintet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1 Rectángulo"/>
          <p:cNvSpPr/>
          <p:nvPr/>
        </p:nvSpPr>
        <p:spPr>
          <a:xfrm>
            <a:off x="179280" y="260280"/>
            <a:ext cx="8640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lípidos del organismo se hallan en un estado dinámico produciéndose constantemente variaciones en su composición que van a depender del metabolismo celu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Son oxidados para obtener energí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Utilizados para la síntesis de constituyentes esenciales de los teji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Almacenados como sustancia de reserva en el tejido adipos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lípidos presentes en la alimentación se encuentran generalmente en mayor concentración en aceites, manteca, yema de huev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n general están presentes como triglicéridos (grasas neutras), ácidos grasos y sus derivados, fosfolípidos, glucolípidos, esteroles y caroteno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685440" y="2057040"/>
            <a:ext cx="8062920" cy="4684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Ácidos grasos de cadena corta (6-10 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Albúmi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-  Ácidos grasos de cadena larga (12-18 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Re-síntesis de TG        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Q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Cuadro de texto 2"/>
          <p:cNvSpPr/>
          <p:nvPr/>
        </p:nvSpPr>
        <p:spPr>
          <a:xfrm>
            <a:off x="755640" y="476280"/>
            <a:ext cx="7489800" cy="106884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DESTINO DE LOS LIPIDOS ABSORBIDOS EN EL ENTEROC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Elipse 5"/>
          <p:cNvSpPr/>
          <p:nvPr/>
        </p:nvSpPr>
        <p:spPr>
          <a:xfrm>
            <a:off x="5262480" y="5064120"/>
            <a:ext cx="1224000" cy="574560"/>
          </a:xfrm>
          <a:prstGeom prst="ellipse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Elipse 6"/>
          <p:cNvSpPr/>
          <p:nvPr/>
        </p:nvSpPr>
        <p:spPr>
          <a:xfrm>
            <a:off x="2023920" y="2755800"/>
            <a:ext cx="1224000" cy="574920"/>
          </a:xfrm>
          <a:prstGeom prst="ellipse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Sang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Línea 4"/>
          <p:cNvSpPr/>
          <p:nvPr/>
        </p:nvSpPr>
        <p:spPr>
          <a:xfrm>
            <a:off x="3422520" y="2492280"/>
            <a:ext cx="0" cy="949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Línea 5"/>
          <p:cNvSpPr/>
          <p:nvPr/>
        </p:nvSpPr>
        <p:spPr>
          <a:xfrm>
            <a:off x="4284720" y="3716280"/>
            <a:ext cx="1295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Línea 6"/>
          <p:cNvSpPr/>
          <p:nvPr/>
        </p:nvSpPr>
        <p:spPr>
          <a:xfrm>
            <a:off x="2023920" y="4653000"/>
            <a:ext cx="0" cy="720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Línea 4"/>
          <p:cNvSpPr/>
          <p:nvPr/>
        </p:nvSpPr>
        <p:spPr>
          <a:xfrm>
            <a:off x="5435640" y="5821200"/>
            <a:ext cx="1081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Línea 7"/>
          <p:cNvSpPr/>
          <p:nvPr/>
        </p:nvSpPr>
        <p:spPr>
          <a:xfrm>
            <a:off x="3247920" y="5821200"/>
            <a:ext cx="747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Cuadro de texto 11"/>
          <p:cNvSpPr/>
          <p:nvPr/>
        </p:nvSpPr>
        <p:spPr>
          <a:xfrm>
            <a:off x="6012000" y="3513240"/>
            <a:ext cx="1655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Í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Cuadro de texto 13"/>
          <p:cNvSpPr/>
          <p:nvPr/>
        </p:nvSpPr>
        <p:spPr>
          <a:xfrm>
            <a:off x="6659640" y="5586480"/>
            <a:ext cx="151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J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Rounded MT Bold"/>
              </a:rPr>
              <a:t>Biosíntesis de Acil-Coenzima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8" name="Grupo 7"/>
          <p:cNvGrpSpPr/>
          <p:nvPr/>
        </p:nvGrpSpPr>
        <p:grpSpPr>
          <a:xfrm>
            <a:off x="900000" y="2827440"/>
            <a:ext cx="7417080" cy="459720"/>
            <a:chOff x="900000" y="2827440"/>
            <a:chExt cx="7417080" cy="459720"/>
          </a:xfrm>
        </p:grpSpPr>
        <p:sp>
          <p:nvSpPr>
            <p:cNvPr id="799" name="Cuadro de texto 4"/>
            <p:cNvSpPr/>
            <p:nvPr/>
          </p:nvSpPr>
          <p:spPr>
            <a:xfrm>
              <a:off x="900000" y="2827440"/>
              <a:ext cx="741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DO GRASO + COA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-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H                    ACIL-Co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Línea 5"/>
            <p:cNvSpPr/>
            <p:nvPr/>
          </p:nvSpPr>
          <p:spPr>
            <a:xfrm>
              <a:off x="4932360" y="3114720"/>
              <a:ext cx="1081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1" name="Cuadro de texto 6"/>
          <p:cNvSpPr/>
          <p:nvPr/>
        </p:nvSpPr>
        <p:spPr>
          <a:xfrm rot="18873000">
            <a:off x="4837320" y="21556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oquin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Cuadro de texto 8"/>
          <p:cNvSpPr/>
          <p:nvPr/>
        </p:nvSpPr>
        <p:spPr>
          <a:xfrm>
            <a:off x="4284720" y="3357720"/>
            <a:ext cx="237636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ATP         AMP  + P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Autoforma 9"/>
          <p:cNvSpPr/>
          <p:nvPr/>
        </p:nvSpPr>
        <p:spPr>
          <a:xfrm>
            <a:off x="5148360" y="3141720"/>
            <a:ext cx="431640" cy="287280"/>
          </a:xfrm>
          <a:custGeom>
            <a:avLst/>
            <a:gdLst>
              <a:gd name="textAreaLeft" fmla="*/ 75600 w 431640"/>
              <a:gd name="textAreaRight" fmla="*/ 313200 w 43164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4" name="Grupo 15"/>
          <p:cNvGrpSpPr/>
          <p:nvPr/>
        </p:nvGrpSpPr>
        <p:grpSpPr>
          <a:xfrm>
            <a:off x="179280" y="4599360"/>
            <a:ext cx="8820360" cy="891000"/>
            <a:chOff x="179280" y="4599360"/>
            <a:chExt cx="8820360" cy="891000"/>
          </a:xfrm>
        </p:grpSpPr>
        <p:sp>
          <p:nvSpPr>
            <p:cNvPr id="805" name="Cuadro de texto 10"/>
            <p:cNvSpPr/>
            <p:nvPr/>
          </p:nvSpPr>
          <p:spPr>
            <a:xfrm>
              <a:off x="179280" y="4724280"/>
              <a:ext cx="8820360" cy="7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                                                        O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-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C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-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 CoA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H +ATP          R-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C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-CoA + AMP + PPi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Elipse 11"/>
            <p:cNvSpPr/>
            <p:nvPr/>
          </p:nvSpPr>
          <p:spPr>
            <a:xfrm rot="19201800">
              <a:off x="1258920" y="4725720"/>
              <a:ext cx="5763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Línea 13"/>
            <p:cNvSpPr/>
            <p:nvPr/>
          </p:nvSpPr>
          <p:spPr>
            <a:xfrm>
              <a:off x="4067280" y="5300640"/>
              <a:ext cx="720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Elipse 14"/>
            <p:cNvSpPr/>
            <p:nvPr/>
          </p:nvSpPr>
          <p:spPr>
            <a:xfrm rot="19201800">
              <a:off x="5796000" y="4725720"/>
              <a:ext cx="5763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Cuadro de texto 4"/>
          <p:cNvSpPr/>
          <p:nvPr/>
        </p:nvSpPr>
        <p:spPr>
          <a:xfrm>
            <a:off x="755640" y="260280"/>
            <a:ext cx="7467480" cy="5814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iosíntesis de Triglicér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0" name="Grupo 18"/>
          <p:cNvGrpSpPr/>
          <p:nvPr/>
        </p:nvGrpSpPr>
        <p:grpSpPr>
          <a:xfrm>
            <a:off x="142920" y="836640"/>
            <a:ext cx="9001080" cy="1768320"/>
            <a:chOff x="142920" y="836640"/>
            <a:chExt cx="9001080" cy="1768320"/>
          </a:xfrm>
        </p:grpSpPr>
        <p:pic>
          <p:nvPicPr>
            <p:cNvPr id="811" name="Imagen 5" descr="deposito invitrogen002"/>
            <p:cNvPicPr/>
            <p:nvPr/>
          </p:nvPicPr>
          <p:blipFill>
            <a:blip r:embed="rId1"/>
            <a:srcRect l="1274" t="2643" r="2091" b="77633"/>
            <a:stretch/>
          </p:blipFill>
          <p:spPr>
            <a:xfrm>
              <a:off x="142920" y="836640"/>
              <a:ext cx="900108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Cuadro de texto 10"/>
            <p:cNvSpPr/>
            <p:nvPr/>
          </p:nvSpPr>
          <p:spPr>
            <a:xfrm>
              <a:off x="5580000" y="1628640"/>
              <a:ext cx="259236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licerol quin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3" name="Rectángulo 12"/>
          <p:cNvSpPr/>
          <p:nvPr/>
        </p:nvSpPr>
        <p:spPr>
          <a:xfrm>
            <a:off x="4427640" y="4149720"/>
            <a:ext cx="43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ángulo 13"/>
          <p:cNvSpPr/>
          <p:nvPr/>
        </p:nvSpPr>
        <p:spPr>
          <a:xfrm>
            <a:off x="4500720" y="2852640"/>
            <a:ext cx="431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Rectángulo 14"/>
          <p:cNvSpPr/>
          <p:nvPr/>
        </p:nvSpPr>
        <p:spPr>
          <a:xfrm>
            <a:off x="4572000" y="5661000"/>
            <a:ext cx="431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6" name="Grupo 23"/>
          <p:cNvGrpSpPr/>
          <p:nvPr/>
        </p:nvGrpSpPr>
        <p:grpSpPr>
          <a:xfrm>
            <a:off x="2987640" y="2565360"/>
            <a:ext cx="4032360" cy="4035600"/>
            <a:chOff x="2987640" y="2565360"/>
            <a:chExt cx="4032360" cy="4035600"/>
          </a:xfrm>
        </p:grpSpPr>
        <p:pic>
          <p:nvPicPr>
            <p:cNvPr id="817" name="Imagen 6" descr="deposito invitrogen002"/>
            <p:cNvPicPr/>
            <p:nvPr/>
          </p:nvPicPr>
          <p:blipFill>
            <a:blip r:embed="rId2"/>
            <a:srcRect l="30802" t="21852" r="30736" b="30711"/>
            <a:stretch/>
          </p:blipFill>
          <p:spPr>
            <a:xfrm>
              <a:off x="2987640" y="2565360"/>
              <a:ext cx="3398760" cy="40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Cuadro de texto 7"/>
            <p:cNvSpPr/>
            <p:nvPr/>
          </p:nvSpPr>
          <p:spPr>
            <a:xfrm>
              <a:off x="4643280" y="285264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transfer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Cuadro de texto 9"/>
            <p:cNvSpPr/>
            <p:nvPr/>
          </p:nvSpPr>
          <p:spPr>
            <a:xfrm>
              <a:off x="4716360" y="5589720"/>
              <a:ext cx="1656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osfat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Autoforma 11"/>
            <p:cNvSpPr/>
            <p:nvPr/>
          </p:nvSpPr>
          <p:spPr>
            <a:xfrm>
              <a:off x="4500720" y="2852640"/>
              <a:ext cx="287280" cy="50508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Cuadro de texto 20"/>
            <p:cNvSpPr/>
            <p:nvPr/>
          </p:nvSpPr>
          <p:spPr>
            <a:xfrm>
              <a:off x="4643280" y="421956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transfer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Autoforma 21"/>
            <p:cNvSpPr/>
            <p:nvPr/>
          </p:nvSpPr>
          <p:spPr>
            <a:xfrm>
              <a:off x="4500720" y="421956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Autoforma 22"/>
            <p:cNvSpPr/>
            <p:nvPr/>
          </p:nvSpPr>
          <p:spPr>
            <a:xfrm>
              <a:off x="4500720" y="566100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upo 7"/>
          <p:cNvGrpSpPr/>
          <p:nvPr/>
        </p:nvGrpSpPr>
        <p:grpSpPr>
          <a:xfrm>
            <a:off x="41400" y="260280"/>
            <a:ext cx="9067680" cy="5256360"/>
            <a:chOff x="41400" y="260280"/>
            <a:chExt cx="9067680" cy="5256360"/>
          </a:xfrm>
        </p:grpSpPr>
        <p:pic>
          <p:nvPicPr>
            <p:cNvPr id="825" name="Imagen 4" descr="deposito invitrogen002"/>
            <p:cNvPicPr/>
            <p:nvPr/>
          </p:nvPicPr>
          <p:blipFill>
            <a:blip r:embed="rId1"/>
            <a:srcRect l="1274" t="64805" r="2091" b="6221"/>
            <a:stretch/>
          </p:blipFill>
          <p:spPr>
            <a:xfrm>
              <a:off x="41400" y="2060640"/>
              <a:ext cx="906768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Línea 5"/>
            <p:cNvSpPr/>
            <p:nvPr/>
          </p:nvSpPr>
          <p:spPr>
            <a:xfrm>
              <a:off x="4788000" y="260280"/>
              <a:ext cx="0" cy="1873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Cuadro de texto 6"/>
            <p:cNvSpPr/>
            <p:nvPr/>
          </p:nvSpPr>
          <p:spPr>
            <a:xfrm>
              <a:off x="4859280" y="2781360"/>
              <a:ext cx="1511280" cy="703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ransferas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33480" y="0"/>
            <a:ext cx="919296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2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47872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1 Rectángulo"/>
          <p:cNvSpPr/>
          <p:nvPr/>
        </p:nvSpPr>
        <p:spPr>
          <a:xfrm>
            <a:off x="468360" y="333360"/>
            <a:ext cx="8136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UNCIONES DE LOS LÍP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lípidos constituyen más del 10 % del peso corporal de un individuo adulto norm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y aproximadamente el 40 % de las calorías de la aliment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s causa de preocupación en la dieta por sus implicancias en enfermedades cardiovasculare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uando se consumen altos niveles de grasas saturad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1 Rectángulo"/>
          <p:cNvSpPr/>
          <p:nvPr/>
        </p:nvSpPr>
        <p:spPr>
          <a:xfrm>
            <a:off x="108000" y="189000"/>
            <a:ext cx="8785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Son  importantes en la alimentación por las diferentes funciones que cump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1.FUNCIÓN DE RESERVA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Son la principal reserva energética del organism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Un gramo de grasa produce por oxidación 9,4 kcal/g, mientras que las proteínas y los glúcidos sólo producen 4,1 kcal/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2.FUNCIÓN ESTRUCTURAL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orman las bicapas lipídicas de las membranas biológic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Recubren órganos y le dan consistencia, o los protegen mecánicamente, como el tejido adiposo de riñón, pies y man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1 Rectángulo"/>
          <p:cNvSpPr/>
          <p:nvPr/>
        </p:nvSpPr>
        <p:spPr>
          <a:xfrm>
            <a:off x="324000" y="836640"/>
            <a:ext cx="8351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3.FUNCIÓN BIOCATALIZADORA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avorecen o facilitan las reacciones que se producen en los seres viv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umplen esta función las vitaminas liposolubles, las hormonas esteroideas y las prostaglandin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4.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FUNCIÓN REGULADORA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 partir de ácidos grasos se sintetizan reguladores biológic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omo los EICOSANOIDES, considerados hormonas de acción local  y l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OSFOLÍPIDOS DE INOSITOL que actúan como segundos mensajer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Calibri"/>
              </a:rPr>
              <a:t>Funciones de los lípid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05840" cy="3895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Fuente de energí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Manto térmi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Componentes de membranas celula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Estructura de caracteres sexuales secundar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Rounded MT Bold"/>
              </a:rPr>
              <a:t>Aportan ácidos grasos esenciales y vitamin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Rounded MT Bold"/>
              </a:rPr>
              <a:t>Precursores de varios derivados lipídic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Imagen 3" descr=""/>
          <p:cNvPicPr/>
          <p:nvPr/>
        </p:nvPicPr>
        <p:blipFill>
          <a:blip r:embed="rId1"/>
          <a:stretch/>
        </p:blipFill>
        <p:spPr>
          <a:xfrm>
            <a:off x="66600" y="189000"/>
            <a:ext cx="87789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 Rounded MT Bold"/>
              </a:rPr>
              <a:t>Clasificación de líp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Imagen 3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883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Imagen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704000" cy="5006880"/>
          </a:xfrm>
          <a:prstGeom prst="rect">
            <a:avLst/>
          </a:prstGeom>
          <a:ln w="0">
            <a:noFill/>
          </a:ln>
        </p:spPr>
      </p:pic>
      <p:pic>
        <p:nvPicPr>
          <p:cNvPr id="546" name="Imagen 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0:13:00Z</dcterms:created>
  <dc:creator>Fanny</dc:creator>
  <dc:description/>
  <dc:language>en-US</dc:language>
  <cp:lastModifiedBy>Fanny Zirulnik</cp:lastModifiedBy>
  <dcterms:modified xsi:type="dcterms:W3CDTF">2017-04-19T21:41:36Z</dcterms:modified>
  <cp:revision>79</cp:revision>
  <dc:subject/>
  <dc:title>Presentación de PowerPoint</dc:title>
</cp:coreProperties>
</file>